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041120" y="762120"/>
            <a:ext cx="4776840" cy="358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400" y="4573080"/>
            <a:ext cx="502920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9219960"/>
            <a:ext cx="29718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5840" y="9219960"/>
            <a:ext cx="29718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00CB-0111-4CE1-824D-6121CD3CF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922032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4A95-BB88-45A2-BBDE-A5A4B6BE9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6840" cy="35827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573080"/>
            <a:ext cx="50292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922032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9029-5179-4F9C-BE1D-C622A5B17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6840" cy="35827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573080"/>
            <a:ext cx="5029200" cy="43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922032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BE88-4394-4B05-9FB2-B8C7D008D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6840" cy="35827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573080"/>
            <a:ext cx="5029200" cy="43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922032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233C-DB88-4D14-8553-4B441A900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6840" cy="35827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573080"/>
            <a:ext cx="5029200" cy="43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3880" y="2156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9080" y="1142640"/>
            <a:ext cx="8305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9080" y="3849120"/>
            <a:ext cx="8305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3880" y="2156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9080" y="114264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5000" y="114264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9080" y="384912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5000" y="384912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3880" y="2156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9080" y="1142640"/>
            <a:ext cx="267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7080" y="1142640"/>
            <a:ext cx="267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5440" y="1142640"/>
            <a:ext cx="267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9080" y="3849120"/>
            <a:ext cx="267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7080" y="3849120"/>
            <a:ext cx="267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5440" y="3849120"/>
            <a:ext cx="267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3880" y="2156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49080" y="11426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3880" y="2156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49080" y="11426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3880" y="2156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49080" y="1142640"/>
            <a:ext cx="4052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05000" y="1142640"/>
            <a:ext cx="4052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3880" y="2156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3880" y="215640"/>
            <a:ext cx="83059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3880" y="2156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49080" y="114264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05000" y="1142640"/>
            <a:ext cx="4052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49080" y="384912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3880" y="2156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9080" y="11426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3880" y="2156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49080" y="1142640"/>
            <a:ext cx="4052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5000" y="114264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05000" y="384912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3880" y="2156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9080" y="114264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5000" y="114264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49080" y="3849120"/>
            <a:ext cx="8305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3880" y="2156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49080" y="1142640"/>
            <a:ext cx="8305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49080" y="3849120"/>
            <a:ext cx="8305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3880" y="2156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9080" y="114264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5000" y="114264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49080" y="384912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05000" y="384912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3880" y="2156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49080" y="1142640"/>
            <a:ext cx="267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57080" y="1142640"/>
            <a:ext cx="267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65440" y="1142640"/>
            <a:ext cx="267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49080" y="3849120"/>
            <a:ext cx="267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57080" y="3849120"/>
            <a:ext cx="267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65440" y="3849120"/>
            <a:ext cx="267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3880" y="2156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9080" y="11426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3880" y="2156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9080" y="1142640"/>
            <a:ext cx="4052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5000" y="1142640"/>
            <a:ext cx="4052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3880" y="2156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3880" y="215640"/>
            <a:ext cx="83059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3880" y="2156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9080" y="114264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5000" y="1142640"/>
            <a:ext cx="4052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9080" y="384912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3880" y="2156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9080" y="1142640"/>
            <a:ext cx="4052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5000" y="114264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5000" y="384912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3880" y="2156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9080" y="114264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5000" y="114264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9080" y="3849120"/>
            <a:ext cx="8305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3880" y="2156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9080" y="11426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ff00"/>
              </a:buClr>
              <a:buSzPct val="70000"/>
              <a:buFont typeface="Wingdings" charset="2"/>
              <a:buChar char="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ff0000"/>
              </a:buClr>
              <a:buFont typeface="Monotype Sorts" charset="2"/>
              <a:buChar char="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7"/>
          <p:cNvSpPr/>
          <p:nvPr/>
        </p:nvSpPr>
        <p:spPr>
          <a:xfrm>
            <a:off x="540000" y="6583320"/>
            <a:ext cx="433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Han-sur-Lesse ABINIT developer workshop, 11-14 April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8"/>
          <p:cNvSpPr/>
          <p:nvPr/>
        </p:nvSpPr>
        <p:spPr>
          <a:xfrm>
            <a:off x="8523720" y="65833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65A4-1448-4102-A82A-278049F72FFE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5079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3880" y="2156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49080" y="11426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ff00"/>
              </a:buClr>
              <a:buSzPct val="70000"/>
              <a:buFont typeface="Wingdings" charset="2"/>
              <a:buChar char="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ff0000"/>
              </a:buClr>
              <a:buFont typeface="Monotype Sorts" charset="2"/>
              <a:buChar char="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90400" y="367920"/>
            <a:ext cx="79632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2d2db9"/>
                </a:solidFill>
                <a:latin typeface="Times New Roman"/>
              </a:rPr>
              <a:t>ABINIT 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2d2db9"/>
                </a:solidFill>
                <a:latin typeface="Times New Roman"/>
              </a:rPr>
              <a:t>Workshop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2d2db9"/>
                </a:solidFill>
                <a:latin typeface="Times New Roman"/>
              </a:rPr>
              <a:t>WELCOME 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865080" y="2679840"/>
            <a:ext cx="8101080" cy="27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ANKS TO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   Int. organizing committee (F. Bruneval, B. Partoens, M. Verstraete, J. Zwanziger, X.G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ocal organizing committee (S. Benyoub, B. Bertau, J.-M. Beuken, N. Coisman, H. Dixit, G. Franco, A. Jacques, A. Miglio, S. B. Partoens, Poncé, T. Rangel, G.-M. Rignanese, D. Waroqui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ff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ff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ff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755640" y="5607000"/>
            <a:ext cx="1695600" cy="863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2"/>
          <a:stretch/>
        </p:blipFill>
        <p:spPr>
          <a:xfrm>
            <a:off x="2463840" y="5499000"/>
            <a:ext cx="1600200" cy="1017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3"/>
          <a:stretch/>
        </p:blipFill>
        <p:spPr>
          <a:xfrm>
            <a:off x="4019400" y="5556240"/>
            <a:ext cx="1460520" cy="959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"/>
          <p:cNvPicPr/>
          <p:nvPr/>
        </p:nvPicPr>
        <p:blipFill>
          <a:blip r:embed="rId4"/>
          <a:stretch/>
        </p:blipFill>
        <p:spPr>
          <a:xfrm>
            <a:off x="5511960" y="5486400"/>
            <a:ext cx="1384200" cy="1055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"/>
          <p:cNvPicPr/>
          <p:nvPr/>
        </p:nvPicPr>
        <p:blipFill>
          <a:blip r:embed="rId5"/>
          <a:stretch/>
        </p:blipFill>
        <p:spPr>
          <a:xfrm>
            <a:off x="6972480" y="5442120"/>
            <a:ext cx="1550880" cy="1123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5720" y="-3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3333cc"/>
                </a:solidFill>
                <a:latin typeface="Times New Roman"/>
              </a:rPr>
              <a:t>ABINIT : some dates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72360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ff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recursor : the Corning PW code (commercialized 1992-1995 by Biosy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ff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1997 : beginning of the ABINIT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ff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Dec 2000 : release of ABINITv3 under the GNU General Public License (GP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ff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Nov 2002 :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1st int. ABINIT dev. workshop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about 40 participants (LL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ff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May 2004 :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2nd int. ABINIT dev. workshop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about 40 participants (Pari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ff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Jan 2007 :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3rd int. ABINIT dev. workshop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about 60 participants (Liè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ff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Mar 2009 :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4rd int. ABINIT dev. workshop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about 60 participants (Autra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ff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April 2011 :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5th int. ABINIT dev. workshop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- 57 participants (Han-sur-Les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4280040" y="3860640"/>
            <a:ext cx="4443120" cy="2737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2"/>
          <a:stretch/>
        </p:blipFill>
        <p:spPr>
          <a:xfrm>
            <a:off x="927000" y="3860640"/>
            <a:ext cx="3238560" cy="1703520"/>
          </a:xfrm>
          <a:prstGeom prst="rect">
            <a:avLst/>
          </a:prstGeom>
          <a:ln w="0">
            <a:noFill/>
          </a:ln>
        </p:spPr>
      </p:pic>
      <p:sp>
        <p:nvSpPr>
          <p:cNvPr id="97" name="TextBox 5"/>
          <p:cNvSpPr/>
          <p:nvPr/>
        </p:nvSpPr>
        <p:spPr>
          <a:xfrm>
            <a:off x="881280" y="56386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3471840" y="60832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85360" y="228240"/>
            <a:ext cx="8558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3333cc"/>
                </a:solidFill>
                <a:latin typeface="Times New Roman"/>
              </a:rPr>
              <a:t>2009-10 : main events for the community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6760" y="1244160"/>
            <a:ext cx="91440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ff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2009-2010 : creation of Forum+new Web site, developmemt of Test F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ff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Aug-Sep 2009 : beautification v5.9-v6.0 with &gt;20 dev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ff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Dec 2009 : Publication of the Comp. Phys. Communication arti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ff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May 2010 : CECAM School “Linear and non-linear responses with ABINI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Also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May 2009 : CECAM School “Theoretical Spectroscopy”, Zur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June 2010 : CECAM School “Basic techniques and tools for the development of atomic-scale software”, Zarago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June 2010 : Tutorial BigDFT/ABINIT Carnegie-Mellon U., Pittsburgh PA, 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Oct 2010 : Tutorial ABINIT Cornell University, Ithaca NY, 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Nov 2010 : School on Computational Condensed Matter, Irbid, Jord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May 2011 : CECAM School “Theoretical Spectroscopy”, Lausan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+ The first ETSF users survey (October 200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20268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3333cc"/>
                </a:solidFill>
                <a:latin typeface="Times New Roman"/>
              </a:rPr>
              <a:t>Time evolution since 2004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2" name="Line 3"/>
          <p:cNvSpPr/>
          <p:nvPr/>
        </p:nvSpPr>
        <p:spPr>
          <a:xfrm flipV="1">
            <a:off x="609480" y="1566720"/>
            <a:ext cx="8318520" cy="46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731880" y="1092240"/>
            <a:ext cx="12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Jan’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1039680" y="149868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2025720" y="149868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685880" y="1092240"/>
            <a:ext cx="12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Jan’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9"/>
          <p:cNvSpPr/>
          <p:nvPr/>
        </p:nvSpPr>
        <p:spPr>
          <a:xfrm>
            <a:off x="3011400" y="149868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0"/>
          <p:cNvSpPr/>
          <p:nvPr/>
        </p:nvSpPr>
        <p:spPr>
          <a:xfrm>
            <a:off x="3998880" y="149868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2676600" y="1092240"/>
            <a:ext cx="12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Jan’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4984920" y="149868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5970600" y="149868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3630600" y="1092240"/>
            <a:ext cx="12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Jan’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2"/>
          <p:cNvSpPr/>
          <p:nvPr/>
        </p:nvSpPr>
        <p:spPr>
          <a:xfrm>
            <a:off x="771120" y="201132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v4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3"/>
          <p:cNvSpPr/>
          <p:nvPr/>
        </p:nvSpPr>
        <p:spPr>
          <a:xfrm>
            <a:off x="604800" y="3521160"/>
            <a:ext cx="4756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As of Jan 2011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1533 routines (fi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824 automatic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00"/>
                </a:solidFill>
                <a:latin typeface="Times New Roman"/>
              </a:rPr>
              <a:t>670 kLines of F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cc99"/>
                </a:solidFill>
                <a:latin typeface="Times New Roman"/>
              </a:rPr>
              <a:t>45.1 MBytes tar.g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cc99"/>
                </a:solidFill>
                <a:latin typeface="Times New Roman"/>
              </a:rPr>
              <a:t>                 </a:t>
            </a:r>
            <a:r>
              <a:rPr b="0" lang="fr-BE" sz="2400" spc="-1" strike="noStrike">
                <a:solidFill>
                  <a:srgbClr val="00cc99"/>
                </a:solidFill>
                <a:latin typeface="Times New Roman"/>
              </a:rPr>
              <a:t>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34"/>
          <p:cNvSpPr/>
          <p:nvPr/>
        </p:nvSpPr>
        <p:spPr>
          <a:xfrm>
            <a:off x="1531800" y="149868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35"/>
          <p:cNvSpPr/>
          <p:nvPr/>
        </p:nvSpPr>
        <p:spPr>
          <a:xfrm>
            <a:off x="2519280" y="149868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36"/>
          <p:cNvSpPr/>
          <p:nvPr/>
        </p:nvSpPr>
        <p:spPr>
          <a:xfrm>
            <a:off x="3505320" y="149868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37"/>
          <p:cNvSpPr/>
          <p:nvPr/>
        </p:nvSpPr>
        <p:spPr>
          <a:xfrm>
            <a:off x="4491000" y="149868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8"/>
          <p:cNvSpPr/>
          <p:nvPr/>
        </p:nvSpPr>
        <p:spPr>
          <a:xfrm>
            <a:off x="4572000" y="1092240"/>
            <a:ext cx="12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Jan’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39"/>
          <p:cNvSpPr/>
          <p:nvPr/>
        </p:nvSpPr>
        <p:spPr>
          <a:xfrm>
            <a:off x="5613480" y="1079640"/>
            <a:ext cx="12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Jan’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41"/>
          <p:cNvSpPr/>
          <p:nvPr/>
        </p:nvSpPr>
        <p:spPr>
          <a:xfrm>
            <a:off x="5478480" y="149868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43"/>
          <p:cNvSpPr/>
          <p:nvPr/>
        </p:nvSpPr>
        <p:spPr>
          <a:xfrm>
            <a:off x="963720" y="1600200"/>
            <a:ext cx="190440" cy="3808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ff28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44"/>
          <p:cNvSpPr/>
          <p:nvPr/>
        </p:nvSpPr>
        <p:spPr>
          <a:xfrm>
            <a:off x="1598760" y="1600200"/>
            <a:ext cx="190440" cy="3808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ff28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45"/>
          <p:cNvSpPr/>
          <p:nvPr/>
        </p:nvSpPr>
        <p:spPr>
          <a:xfrm>
            <a:off x="2055960" y="1600200"/>
            <a:ext cx="190440" cy="3808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ff28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46"/>
          <p:cNvSpPr/>
          <p:nvPr/>
        </p:nvSpPr>
        <p:spPr>
          <a:xfrm>
            <a:off x="2538360" y="1600200"/>
            <a:ext cx="190440" cy="3808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ff28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48"/>
          <p:cNvSpPr/>
          <p:nvPr/>
        </p:nvSpPr>
        <p:spPr>
          <a:xfrm>
            <a:off x="3071880" y="1600200"/>
            <a:ext cx="190440" cy="3808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ff28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49"/>
          <p:cNvSpPr/>
          <p:nvPr/>
        </p:nvSpPr>
        <p:spPr>
          <a:xfrm>
            <a:off x="3554280" y="1600200"/>
            <a:ext cx="190800" cy="380880"/>
          </a:xfrm>
          <a:prstGeom prst="upArrow">
            <a:avLst>
              <a:gd name="adj1" fmla="val 50000"/>
              <a:gd name="adj2" fmla="val 49906"/>
            </a:avLst>
          </a:prstGeom>
          <a:solidFill>
            <a:srgbClr val="ffffff"/>
          </a:solidFill>
          <a:ln w="9360">
            <a:solidFill>
              <a:srgbClr val="ff28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50"/>
          <p:cNvSpPr/>
          <p:nvPr/>
        </p:nvSpPr>
        <p:spPr>
          <a:xfrm>
            <a:off x="1368360" y="21970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v4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1"/>
          <p:cNvSpPr/>
          <p:nvPr/>
        </p:nvSpPr>
        <p:spPr>
          <a:xfrm>
            <a:off x="1838160" y="201132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v4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52"/>
          <p:cNvSpPr/>
          <p:nvPr/>
        </p:nvSpPr>
        <p:spPr>
          <a:xfrm>
            <a:off x="2295360" y="21970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v4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4"/>
          <p:cNvSpPr/>
          <p:nvPr/>
        </p:nvSpPr>
        <p:spPr>
          <a:xfrm>
            <a:off x="2917440" y="201132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v5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55"/>
          <p:cNvSpPr/>
          <p:nvPr/>
        </p:nvSpPr>
        <p:spPr>
          <a:xfrm>
            <a:off x="3349440" y="21970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v5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56"/>
          <p:cNvSpPr/>
          <p:nvPr/>
        </p:nvSpPr>
        <p:spPr>
          <a:xfrm>
            <a:off x="3909960" y="1600200"/>
            <a:ext cx="190440" cy="3808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ff28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7"/>
          <p:cNvSpPr/>
          <p:nvPr/>
        </p:nvSpPr>
        <p:spPr>
          <a:xfrm>
            <a:off x="3717720" y="201132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v5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56"/>
          <p:cNvSpPr/>
          <p:nvPr/>
        </p:nvSpPr>
        <p:spPr>
          <a:xfrm>
            <a:off x="4316400" y="1600200"/>
            <a:ext cx="190440" cy="3808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ff28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56"/>
          <p:cNvSpPr/>
          <p:nvPr/>
        </p:nvSpPr>
        <p:spPr>
          <a:xfrm>
            <a:off x="4761000" y="1600200"/>
            <a:ext cx="190440" cy="3808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ff28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56"/>
          <p:cNvSpPr/>
          <p:nvPr/>
        </p:nvSpPr>
        <p:spPr>
          <a:xfrm>
            <a:off x="5586480" y="1600200"/>
            <a:ext cx="190440" cy="3808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ff28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56"/>
          <p:cNvSpPr/>
          <p:nvPr/>
        </p:nvSpPr>
        <p:spPr>
          <a:xfrm>
            <a:off x="5865840" y="1600200"/>
            <a:ext cx="190440" cy="3808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ff28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7"/>
          <p:cNvSpPr/>
          <p:nvPr/>
        </p:nvSpPr>
        <p:spPr>
          <a:xfrm>
            <a:off x="4120200" y="21970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v5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57"/>
          <p:cNvSpPr/>
          <p:nvPr/>
        </p:nvSpPr>
        <p:spPr>
          <a:xfrm>
            <a:off x="4577400" y="201132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v5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7"/>
          <p:cNvSpPr/>
          <p:nvPr/>
        </p:nvSpPr>
        <p:spPr>
          <a:xfrm>
            <a:off x="5390280" y="21970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v5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57"/>
          <p:cNvSpPr/>
          <p:nvPr/>
        </p:nvSpPr>
        <p:spPr>
          <a:xfrm>
            <a:off x="5609160" y="201132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v5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Box 70"/>
          <p:cNvSpPr/>
          <p:nvPr/>
        </p:nvSpPr>
        <p:spPr>
          <a:xfrm>
            <a:off x="4572000" y="5778360"/>
            <a:ext cx="4292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4.5     v5.3       v5.7           v6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Chart 45" descr=""/>
          <p:cNvPicPr/>
          <p:nvPr/>
        </p:nvPicPr>
        <p:blipFill>
          <a:blip r:embed="rId1"/>
          <a:stretch/>
        </p:blipFill>
        <p:spPr>
          <a:xfrm>
            <a:off x="0" y="0"/>
            <a:ext cx="10625040" cy="59864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9"/>
          <p:cNvSpPr/>
          <p:nvPr/>
        </p:nvSpPr>
        <p:spPr>
          <a:xfrm>
            <a:off x="6654960" y="1092240"/>
            <a:ext cx="129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Jan’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39"/>
          <p:cNvSpPr/>
          <p:nvPr/>
        </p:nvSpPr>
        <p:spPr>
          <a:xfrm>
            <a:off x="7672320" y="1092240"/>
            <a:ext cx="12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Jan’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3"/>
          <p:cNvSpPr/>
          <p:nvPr/>
        </p:nvSpPr>
        <p:spPr>
          <a:xfrm>
            <a:off x="7545240" y="1486080"/>
            <a:ext cx="0" cy="8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3"/>
          <p:cNvSpPr/>
          <p:nvPr/>
        </p:nvSpPr>
        <p:spPr>
          <a:xfrm>
            <a:off x="6491160" y="1486080"/>
            <a:ext cx="0" cy="8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3"/>
          <p:cNvSpPr/>
          <p:nvPr/>
        </p:nvSpPr>
        <p:spPr>
          <a:xfrm>
            <a:off x="7012080" y="149868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56"/>
          <p:cNvSpPr/>
          <p:nvPr/>
        </p:nvSpPr>
        <p:spPr>
          <a:xfrm>
            <a:off x="6297480" y="1600200"/>
            <a:ext cx="190800" cy="380880"/>
          </a:xfrm>
          <a:prstGeom prst="upArrow">
            <a:avLst>
              <a:gd name="adj1" fmla="val 50000"/>
              <a:gd name="adj2" fmla="val 49906"/>
            </a:avLst>
          </a:prstGeom>
          <a:solidFill>
            <a:srgbClr val="ffffff"/>
          </a:solidFill>
          <a:ln w="9360">
            <a:solidFill>
              <a:srgbClr val="ff28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56"/>
          <p:cNvSpPr/>
          <p:nvPr/>
        </p:nvSpPr>
        <p:spPr>
          <a:xfrm>
            <a:off x="6907320" y="1600200"/>
            <a:ext cx="190440" cy="3808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ff28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56"/>
          <p:cNvSpPr/>
          <p:nvPr/>
        </p:nvSpPr>
        <p:spPr>
          <a:xfrm>
            <a:off x="7440480" y="1600200"/>
            <a:ext cx="190800" cy="380880"/>
          </a:xfrm>
          <a:prstGeom prst="upArrow">
            <a:avLst>
              <a:gd name="adj1" fmla="val 50000"/>
              <a:gd name="adj2" fmla="val 49906"/>
            </a:avLst>
          </a:prstGeom>
          <a:solidFill>
            <a:srgbClr val="ffffff"/>
          </a:solidFill>
          <a:ln w="9360">
            <a:solidFill>
              <a:srgbClr val="ff28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56"/>
          <p:cNvSpPr/>
          <p:nvPr/>
        </p:nvSpPr>
        <p:spPr>
          <a:xfrm>
            <a:off x="7707240" y="1600200"/>
            <a:ext cx="190440" cy="3808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ff28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56"/>
          <p:cNvSpPr/>
          <p:nvPr/>
        </p:nvSpPr>
        <p:spPr>
          <a:xfrm>
            <a:off x="7935840" y="1600200"/>
            <a:ext cx="190440" cy="3808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ff28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7"/>
          <p:cNvSpPr/>
          <p:nvPr/>
        </p:nvSpPr>
        <p:spPr>
          <a:xfrm>
            <a:off x="6113880" y="21970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v5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57"/>
          <p:cNvSpPr/>
          <p:nvPr/>
        </p:nvSpPr>
        <p:spPr>
          <a:xfrm>
            <a:off x="6710760" y="201132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v6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57"/>
          <p:cNvSpPr/>
          <p:nvPr/>
        </p:nvSpPr>
        <p:spPr>
          <a:xfrm>
            <a:off x="7244280" y="21970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v6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57"/>
          <p:cNvSpPr/>
          <p:nvPr/>
        </p:nvSpPr>
        <p:spPr>
          <a:xfrm>
            <a:off x="7523640" y="201132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v6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57"/>
          <p:cNvSpPr/>
          <p:nvPr/>
        </p:nvSpPr>
        <p:spPr>
          <a:xfrm>
            <a:off x="7879320" y="21970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v6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7"/>
          <p:cNvSpPr/>
          <p:nvPr/>
        </p:nvSpPr>
        <p:spPr>
          <a:xfrm>
            <a:off x="4140360" y="5702400"/>
            <a:ext cx="4368600" cy="190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8028000" y="149868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traight Connector 72"/>
          <p:cNvSpPr/>
          <p:nvPr/>
        </p:nvSpPr>
        <p:spPr>
          <a:xfrm flipH="1">
            <a:off x="4836600" y="4230720"/>
            <a:ext cx="3240" cy="1333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traight Connector 73"/>
          <p:cNvSpPr/>
          <p:nvPr/>
        </p:nvSpPr>
        <p:spPr>
          <a:xfrm flipH="1">
            <a:off x="5879880" y="3976560"/>
            <a:ext cx="14040" cy="1598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traight Connector 75"/>
          <p:cNvSpPr/>
          <p:nvPr/>
        </p:nvSpPr>
        <p:spPr>
          <a:xfrm flipH="1">
            <a:off x="6946560" y="3594240"/>
            <a:ext cx="12600" cy="1981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traight Connector 77"/>
          <p:cNvSpPr/>
          <p:nvPr/>
        </p:nvSpPr>
        <p:spPr>
          <a:xfrm flipH="1">
            <a:off x="8254800" y="3251160"/>
            <a:ext cx="12600" cy="2311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62040" y="-3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3333cc"/>
                </a:solidFill>
                <a:latin typeface="Times New Roman"/>
              </a:rPr>
              <a:t>Bibliometry 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7" name="Text Box 41"/>
          <p:cNvSpPr/>
          <p:nvPr/>
        </p:nvSpPr>
        <p:spPr>
          <a:xfrm>
            <a:off x="581760" y="790560"/>
            <a:ext cx="6694200" cy="74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Some measure of usefulness of ABINIT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the three papers co-authored by all active develop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(Not the only papers from ABINIT developers !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Comput. Mat. Science </a:t>
            </a:r>
            <a:r>
              <a:rPr b="0" lang="fr-BE" sz="2000" spc="-1" strike="noStrike" u="sng">
                <a:solidFill>
                  <a:srgbClr val="000000"/>
                </a:solidFill>
                <a:uFillTx/>
                <a:latin typeface="Times New Roman"/>
              </a:rPr>
              <a:t>25</a:t>
            </a: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, 478 (2002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16 auth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As of April 10, 2011 : 1211 ci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(2, 29, 66, 116, 155, 150, 216, 228, 20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Z. Kristallogr. </a:t>
            </a:r>
            <a:r>
              <a:rPr b="0" lang="fr-BE" sz="2000" spc="-1" strike="noStrike" u="sng">
                <a:solidFill>
                  <a:srgbClr val="000000"/>
                </a:solidFill>
                <a:uFillTx/>
                <a:latin typeface="Times New Roman"/>
              </a:rPr>
              <a:t>220</a:t>
            </a: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, 558 (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20 auth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As of April 10, 2011: 244 ci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(2, 18, 21, 58, 54, 6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Comp. Phys. Comm. </a:t>
            </a:r>
            <a:r>
              <a:rPr b="0" lang="fr-BE" sz="2000" spc="-1" strike="noStrike" u="sng">
                <a:solidFill>
                  <a:srgbClr val="000000"/>
                </a:solidFill>
                <a:uFillTx/>
                <a:latin typeface="Times New Roman"/>
              </a:rPr>
              <a:t>180</a:t>
            </a: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, 2582 (200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33 auth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As of April 10, 2011: 53 ci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arenR" startAt="2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26 citation in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Chart 10" descr=""/>
          <p:cNvPicPr/>
          <p:nvPr/>
        </p:nvPicPr>
        <p:blipFill>
          <a:blip r:embed="rId1"/>
          <a:stretch/>
        </p:blipFill>
        <p:spPr>
          <a:xfrm>
            <a:off x="4565520" y="2444760"/>
            <a:ext cx="4584960" cy="27558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1"/>
          <p:cNvSpPr/>
          <p:nvPr/>
        </p:nvSpPr>
        <p:spPr>
          <a:xfrm>
            <a:off x="5308560" y="4940280"/>
            <a:ext cx="3264120" cy="177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7"/>
          <p:cNvSpPr/>
          <p:nvPr/>
        </p:nvSpPr>
        <p:spPr>
          <a:xfrm>
            <a:off x="5079960" y="4995720"/>
            <a:ext cx="4064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2     2004      2006      2008    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6"/>
          <p:cNvSpPr/>
          <p:nvPr/>
        </p:nvSpPr>
        <p:spPr>
          <a:xfrm>
            <a:off x="5542200" y="5334120"/>
            <a:ext cx="28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mber of citations per 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830592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3333cc"/>
                </a:solidFill>
                <a:latin typeface="Times New Roman"/>
              </a:rPr>
              <a:t>The user and developer community : </a:t>
            </a:r>
            <a:br>
              <a:rPr sz="3600"/>
            </a:br>
            <a:r>
              <a:rPr b="1" sz="3600" spc="-1" strike="noStrike">
                <a:solidFill>
                  <a:srgbClr val="3333cc"/>
                </a:solidFill>
                <a:latin typeface="Times New Roman"/>
              </a:rPr>
              <a:t>analysis of mailing lists/repository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563760" y="1362240"/>
            <a:ext cx="809496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As of April 2011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1400 registered addresses in "announce" mailing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587 registered addresses at forum.abinit.org (started 0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61 names from "contributors" file for ABINIT v6 (Sep 0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48 GNU Arch branches   (25 active in v6.5-6.6 preparation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The "announce" lis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about 100 in Dec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about 300 in Feb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about 600 in May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about 1000 in Nov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about 1300 in Mar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830592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3333cc"/>
                </a:solidFill>
                <a:latin typeface="Times New Roman"/>
              </a:rPr>
              <a:t>The ETSF user’s survey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606600" y="1362240"/>
            <a:ext cx="8308800" cy="42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ABINIT part of the European Theoretical Spectroscopy Facility software suite, with some packages delivered on ETSF Web site http ://www.etsf.e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Other applications 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E, DP, Elk, Exc, Exciting, FHI98PP, Octopus, V_Sim, YAMBO</a:t>
            </a: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Results available 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etsf.eu/2009_etsf_software_survey_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-About 193 usable replies (response rate estimated 12.5 %) most of which mentioned the use of ABIN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830592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3333cc"/>
                </a:solidFill>
                <a:latin typeface="Times New Roman"/>
              </a:rPr>
              <a:t>2011 ABINIT Workshop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615600" y="1362240"/>
            <a:ext cx="7578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The most important : interactions between the developers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Discussion session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Monday (Software developmen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1. build system / test farm / testing / 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2. modularization / libr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Tue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3. pseudopotentials and PAW for the whole periodic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4. future beautification / doc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Wedne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Meeting of the ABINIT advisory commit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5. Roadmap of development, the next 2+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830592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3333cc"/>
                </a:solidFill>
                <a:latin typeface="Times New Roman"/>
              </a:rPr>
              <a:t>Some practical information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689400" y="968400"/>
            <a:ext cx="74682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Posters : can be posted during the whole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Wednesday : visit of the cav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FREE, but need to sign-up at the re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Leave : sign-up at the reception if earlier than 4pm Fri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Internet : WIFI everywhere in the main building, also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the animatique room, close to the conference ro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Hotel : get the keys around 6pm today, WIFI OK for PC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Do not forget to fill the ETSF user’s surv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07:53:23Z</dcterms:created>
  <dc:creator>xavier gonze</dc:creator>
  <dc:description/>
  <dc:language>en-US</dc:language>
  <cp:lastModifiedBy>Xavier Gonze</cp:lastModifiedBy>
  <cp:lastPrinted>2011-03-16T09:33:08Z</cp:lastPrinted>
  <dcterms:modified xsi:type="dcterms:W3CDTF">2011-04-11T09:33:59Z</dcterms:modified>
  <cp:revision>10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mapr.ucl.ac.be/~nysten/</vt:lpwstr>
  </property>
  <property fmtid="{D5CDD505-2E9C-101B-9397-08002B2CF9AE}" pid="9" name="LinkColor">
    <vt:r8>16711782</vt:r8>
  </property>
  <property fmtid="{D5CDD505-2E9C-101B-9397-08002B2CF9AE}" pid="10" name="MailAddress">
    <vt:lpwstr>nysten@poly.ucl.ac.be</vt:lpwstr>
  </property>
  <property fmtid="{D5CDD505-2E9C-101B-9397-08002B2CF9AE}" pid="11" name="NavBtnPos">
    <vt:r8>2</vt:r8>
  </property>
  <property fmtid="{D5CDD505-2E9C-101B-9397-08002B2CF9AE}" pid="12" name="Other">
    <vt:lpwstr>Cours n°1</vt:lpwstr>
  </property>
  <property fmtid="{D5CDD505-2E9C-101B-9397-08002B2CF9AE}" pid="13" name="OutputDir">
    <vt:lpwstr>C:\My Documents\Professionnal\Didactique\FSA1404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