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617346938776"/>
          <c:y val="0.0198916408668731"/>
          <c:w val="0.923852040816327"/>
          <c:h val="0.940015479876161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ETOT (meV)</c:v>
                </c:pt>
              </c:strCache>
            </c:strRef>
          </c:tx>
          <c:spPr>
            <a:solidFill>
              <a:srgbClr val="004586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9"/>
                <c:pt idx="0">
                  <c:v>51.0516890494155</c:v>
                </c:pt>
                <c:pt idx="1">
                  <c:v>51.0424758666313</c:v>
                </c:pt>
                <c:pt idx="2">
                  <c:v>51.0333119538009</c:v>
                </c:pt>
                <c:pt idx="3">
                  <c:v>51.2986917010776</c:v>
                </c:pt>
                <c:pt idx="4">
                  <c:v>54.9797311982499</c:v>
                </c:pt>
                <c:pt idx="5">
                  <c:v>68.7526297505117</c:v>
                </c:pt>
                <c:pt idx="6">
                  <c:v>116.333145730925</c:v>
                </c:pt>
                <c:pt idx="7">
                  <c:v>229.702242760475</c:v>
                </c:pt>
                <c:pt idx="8">
                  <c:v>61.5147521001507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QUANTUM</c:v>
                </c:pt>
              </c:strCache>
            </c:strRef>
          </c:tx>
          <c:spPr>
            <a:solidFill>
              <a:srgbClr val="ff420e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9"/>
                <c:pt idx="0">
                  <c:v>51.44</c:v>
                </c:pt>
                <c:pt idx="1">
                  <c:v>51.44</c:v>
                </c:pt>
                <c:pt idx="2">
                  <c:v>51.4400001794034</c:v>
                </c:pt>
                <c:pt idx="3">
                  <c:v>51.4709171736741</c:v>
                </c:pt>
                <c:pt idx="4">
                  <c:v>53.3507802016649</c:v>
                </c:pt>
                <c:pt idx="5">
                  <c:v>67.652068793834</c:v>
                </c:pt>
                <c:pt idx="6">
                  <c:v>113.017091630091</c:v>
                </c:pt>
                <c:pt idx="7">
                  <c:v>226.21343687265</c:v>
                </c:pt>
                <c:pt idx="8">
                  <c:v>60.6084106074662</c:v>
                </c:pt>
              </c:numCache>
            </c:numRef>
          </c:yVal>
          <c:smooth val="0"/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>classique</c:v>
                </c:pt>
              </c:strCache>
            </c:strRef>
          </c:tx>
          <c:spPr>
            <a:solidFill>
              <a:srgbClr val="ffd320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3</c:f>
              <c:numCache>
                <c:formatCode>General</c:formatCode>
                <c:ptCount val="9"/>
                <c:pt idx="0">
                  <c:v>1.29184309774492</c:v>
                </c:pt>
                <c:pt idx="1">
                  <c:v>2.57747244070562</c:v>
                </c:pt>
                <c:pt idx="2">
                  <c:v>5.17637461896497</c:v>
                </c:pt>
                <c:pt idx="3">
                  <c:v>12.8716383499135</c:v>
                </c:pt>
                <c:pt idx="4">
                  <c:v>26.0692062446635</c:v>
                </c:pt>
                <c:pt idx="5">
                  <c:v>52.3498312730201</c:v>
                </c:pt>
                <c:pt idx="6">
                  <c:v>106.267523372584</c:v>
                </c:pt>
                <c:pt idx="7">
                  <c:v>225.527600191486</c:v>
                </c:pt>
                <c:pt idx="8">
                  <c:v>41.7043442482933</c:v>
                </c:pt>
              </c:numCache>
            </c:numRef>
          </c:yVal>
          <c:smooth val="0"/>
        </c:ser>
        <c:axId val="363056"/>
        <c:axId val="91477128"/>
      </c:scatterChart>
      <c:valAx>
        <c:axId val="3630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77128"/>
        <c:crosses val="autoZero"/>
        <c:crossBetween val="midCat"/>
      </c:valAx>
      <c:valAx>
        <c:axId val="91477128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56"/>
        <c:crosses val="autoZero"/>
        <c:crossBetween val="midCat"/>
      </c:valAx>
      <c:spPr>
        <a:noFill/>
        <a:ln w="0">
          <a:solidFill>
            <a:srgbClr val="000000"/>
          </a:solidFill>
        </a:ln>
      </c:spPr>
    </c:plotArea>
    <c:legend>
      <c:legendPos val="r"/>
      <c:layout>
        <c:manualLayout>
          <c:xMode val="edge"/>
          <c:yMode val="edge"/>
          <c:x val="0.600127551020408"/>
          <c:y val="0.69357585139318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B10BAD-B1A4-4BC0-B2EF-E7046AD215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93600" y="768240"/>
            <a:ext cx="51152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4B4-1CD5-4DD9-865B-7699D8EC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A9B-2E67-4C82-BC6B-87612172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70D-1A0B-4B69-A108-46CD23BD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E7C-C4BE-42D6-9FA1-79A2FD7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0C9-BE1C-4486-A1A0-DDA752BF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75A-795F-451C-B579-0E577510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EFD-6630-41A0-8A65-29CA978E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134-503C-4F00-9B88-4975295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278-37F0-43F1-A279-8357859F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EAF-8656-4637-AF4C-C9466AB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3C5-A377-44CC-A85D-E56012F1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205-60E1-4133-BCDB-BA9FA5AC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éminaire Louvain-la-Neuve 15/07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D55994-EEA2-4E4A-80CF-B5CFB3091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1860120"/>
            <a:ext cx="734364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44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ath Integral Molecular 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560" y="3933720"/>
            <a:ext cx="7489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2640" bIns="46800" anchor="t">
            <a:noAutofit/>
          </a:bodyPr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égory GEN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A, DAM, DIF, F-91297 Arpajon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080" y="3429000"/>
            <a:ext cx="3168720" cy="1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23920" y="1824120"/>
            <a:ext cx="77756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is an elegant way to do Quantum Mechanics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out wave function 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B: at low temperature, the Trotter number should be cho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ery hig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one recovers the complexity of QM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9320" y="861840"/>
            <a:ext cx="76582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obtain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                          is the density matrix in the position re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ch a formulation implicitely assumes DISCERNABLE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the case of INDISTINGUISHABLE particles, Z wr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for BOS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for FERM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052720" y="1481040"/>
                <a:ext cx="7021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944800" y="2192400"/>
                <a:ext cx="233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811160" y="2602080"/>
                <a:ext cx="134964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47920" y="3017880"/>
                <a:ext cx="2859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H</m:t>
                            </m:r>
                          </m:sup>
                        </m:sSup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08280" y="4384800"/>
                <a:ext cx="3603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</m:e>
                        </m:nary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708280" y="5356080"/>
                <a:ext cx="4127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/>
                      <m:e>
                        <m:r>
                          <m:t xml:space="preserve">ϵ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>
            <a:off x="4371480" y="5221440"/>
            <a:ext cx="862200" cy="328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75360" y="5019840"/>
            <a:ext cx="24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utation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98480" y="1382760"/>
            <a:ext cx="599616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N PRACTISE: Primitive Approximation (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fixed 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ations are performed for fixed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servables are computed using Z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.e. in the 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ntities must be CONVERGED with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A&gt; computed from Z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P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mitive Estimato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927520" y="1836720"/>
                <a:ext cx="6227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≈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37000" y="3254400"/>
                <a:ext cx="6343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62440" y="2735280"/>
                <a:ext cx="1584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func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1351080"/>
            <a:ext cx="56167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xample: Energy Primitive Estim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g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783480" y="1260360"/>
                <a:ext cx="2201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n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9520" y="4159080"/>
                <a:ext cx="8628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P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sup>
                                </m:sSub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...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t xml:space="preserve">&gt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409760" y="3792600"/>
            <a:ext cx="4846680" cy="1458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9880" y="3792600"/>
            <a:ext cx="2502000" cy="1458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79680" y="5321160"/>
            <a:ext cx="267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netic Energy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61120" y="5321160"/>
            <a:ext cx="28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tential Energy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08400" y="2530440"/>
                <a:ext cx="6343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0360" y="1298520"/>
                <a:ext cx="7021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54280" y="2155680"/>
                <a:ext cx="7134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...</m:t>
                                </m:r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 flipV="1">
            <a:off x="4068720" y="2714400"/>
            <a:ext cx="858960" cy="1096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280" y="2833560"/>
                <a:ext cx="287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846520" y="3691080"/>
            <a:ext cx="276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term grow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 P tend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7478640" y="2738160"/>
            <a:ext cx="214560" cy="10494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0200" y="3665520"/>
            <a:ext cx="199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nds to ZERO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 tends to infin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9240" y="4475160"/>
            <a:ext cx="82630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 the limit of large P, the classical system is mai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HARMON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tandard MD algorithms such as Nose-Hoover thermos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il to correctly sample the phase space =&gt;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non ergodic traj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6520" y="1139760"/>
            <a:ext cx="7410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How to recover ergodicity in PIM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rx, Parrinello, J. Chem. Phys. 104, 4080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Tuckerman, Marx, Klein, Parrinello, J. Chem. Phys. 104, 5579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Thermostat chain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Martyna, Tobias, Klein, J. Chem. Phys. 101, 4177 (199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coordinate 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ging or norma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the corresponding scheme has been extended to the NPT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quations of PIMD in the NPT ensem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rtyna, Hugghes, Tuckerman, J. Chem. Phys. 110, 3275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Alternative way: Langevi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es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5720" y="1158840"/>
            <a:ext cx="63658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LANGEVIN DYNA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VT: « Langevin thermosta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fri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random « Langevin » force (white 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gevin force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Quigley, Probert, Comput. Phys. Comm. 169, 322 (2005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ussian with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138640" y="1581120"/>
                <a:ext cx="32832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778120" y="2185920"/>
                <a:ext cx="6183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846440" y="2925720"/>
                <a:ext cx="12585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acc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60640" y="3622680"/>
                <a:ext cx="687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414680" y="4846680"/>
                <a:ext cx="1363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48160" y="5443560"/>
            <a:ext cx="1121040" cy="272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35800" y="55609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m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1163520"/>
            <a:ext cx="360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: (3D) harmonic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11280" y="1492200"/>
          <a:ext cx="5645160" cy="465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21" name=""/>
          <p:cNvSpPr/>
          <p:nvPr/>
        </p:nvSpPr>
        <p:spPr>
          <a:xfrm>
            <a:off x="7016760" y="4888080"/>
            <a:ext cx="87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x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75440" y="4641840"/>
            <a:ext cx="9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PIM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5359320"/>
            <a:ext cx="185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68480" y="1728720"/>
            <a:ext cx="158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43800" y="1305000"/>
            <a:ext cx="135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xT =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76480" y="4316400"/>
            <a:ext cx="84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=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22480" y="4527720"/>
            <a:ext cx="752400" cy="328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07320" y="1905120"/>
            <a:ext cx="59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100640" y="2021040"/>
            <a:ext cx="731880" cy="72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01680" y="1595520"/>
                <a:ext cx="2122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51.44</m:t>
                    </m:r>
                    <m:r>
                      <m:t xml:space="preserve"> </m:t>
                    </m:r>
                    <m: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91960" y="2162160"/>
            <a:ext cx="166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3 because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scill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79680" y="1173240"/>
            <a:ext cx="65815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to implement the Langevin method in the NPT ensem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has been formulated by Quigley and Prob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. Chem. Phys. 120, 11432 (2004); Comput. Phys. Comm. 169, 322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which X is an « internal pressure » def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28960" y="2147760"/>
                <a:ext cx="5727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t xml:space="preserve">T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039760" y="2841480"/>
                <a:ext cx="22687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065320" y="3638520"/>
                <a:ext cx="6622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h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d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xp</m:t>
                            </m:r>
                          </m:sub>
                        </m:sSub>
                        <m:r>
                          <m:t xml:space="preserve">Id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r>
                      <m:t xml:space="preserve">I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927080" y="4729320"/>
                <a:ext cx="4194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'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892160" y="5424480"/>
                <a:ext cx="1571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622760" y="5505480"/>
            <a:ext cx="372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bines Langevin dynamic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tyna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ro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30720" y="2057400"/>
            <a:ext cx="1528560" cy="835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34360" y="3716280"/>
            <a:ext cx="1338120" cy="6350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35000" y="1171440"/>
            <a:ext cx="6899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BINIT already contains a structure adapted to PI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is structure is devoted to algorithms using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AGES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ese images are propagated at the same time, acco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 the chosen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well adapted to NEB, string method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e two subroutines contained in ABINIT that control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stateimg.F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dictimg.F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rst, let us have a look at these two existing rout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46240" y="1454040"/>
            <a:ext cx="657540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work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rc Torrent (parallelization over imag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rançois Bot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ssica Hermet (proton transport in oxi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ichem Dammak, labo SPMS, Ecole Centrale Pa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rc Hayoun, LSI, Ecole Poly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33560" y="1170000"/>
            <a:ext cx="68025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broutine gstateimg.F90, general struc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op on itimimage (propagation of im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itimimage=1,ntim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) loop on the images (that evolve) to compute energ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c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idynimage=1,ndyn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st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computed total energy, forces,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) Evolution of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dicti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79400" y="1065240"/>
            <a:ext cx="752508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broutine predicti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&gt; chooses the algorithm to propagate the 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ccording to the value of imgmo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lect case(imgmo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copy(acell_timimage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steepest(acell_timimage,fxcartfactor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esults_gs_timimage,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string(acell_timimage,fxcartfactor,iatfix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esults_gs_timimage,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case(9, 1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!    Path Integral Molecular Dynam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call predict_pimd</a:t>
            </a: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(acell_timimage,fxcartfactor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&amp;     results_gs_timimage,rprim_timimage,vel_timimage,xred_timimage,mdpara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 defau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19120" y="2106720"/>
            <a:ext cx="7545600" cy="2692440"/>
          </a:xfrm>
          <a:prstGeom prst="ellipse">
            <a:avLst/>
          </a:prstGeom>
          <a:noFill/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90760" y="4689360"/>
            <a:ext cx="7545240" cy="1370160"/>
          </a:xfrm>
          <a:prstGeom prst="ellipse">
            <a:avLst/>
          </a:prstGeom>
          <a:noFill/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1881360"/>
            <a:ext cx="1324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ring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0120" y="2786040"/>
            <a:ext cx="928800" cy="493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9000" y="4149720"/>
            <a:ext cx="1409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re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MD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0120" y="4767120"/>
            <a:ext cx="928800" cy="493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8416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03520" y="1270080"/>
            <a:ext cx="70689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IMD implemented in: SUBROUTINE predict_pimd.F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wo algorith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Langevin dyna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ose Hoover chains + coordinate trans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 two ensem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V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q: Langevin NPT uses Quigley-Probert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11160" y="1270080"/>
            <a:ext cx="53229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ated key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ce of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imgmo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9 (Langevin) or 13 (Nose-Hoover ch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ce of statistical ensem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optcel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0 if NVT, 2 if N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nim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ROTT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ntimim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number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mditem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initial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mdftem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hermostat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d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im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gevin thermos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v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friction coeff in the case of Langevi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6440" y="1422360"/>
            <a:ext cx="567684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ngevin dynamics is a powerfool way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recover ergodicity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but special care should be paid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1) Choice of random number gene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2) Choice of 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09720" y="1206360"/>
            <a:ext cx="69706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1) Random number gen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ngevin dynamics requires random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 quality of the random number generator is crucial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ssible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1) in ABINIT: subroutine uniformrandom.f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2) intrinsic function of fortran = random_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3) random number generator: Z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R.Chandler, generator from G. Marsaglia and A. Zam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nnals of Appl. Probability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(1991), 462-48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st of algorithm on a long trajectory =&gt; (2) and (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ive better result than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06480" y="3282840"/>
            <a:ext cx="8102520" cy="2933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38440" y="955800"/>
            <a:ext cx="73389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st way to test MD algorithm is to 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LONG trajectory on a BIG system, b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ifficult in ab initi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remove (temporary) the ab initio part of ABINIT 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replace it by a phenomenological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100 000 time steps on 1728 particles, T=300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1) Use of subroutine uniform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16120" y="4703760"/>
            <a:ext cx="714996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6440" y="372600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07920" y="3654360"/>
            <a:ext cx="8166240" cy="2562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909720" y="1200240"/>
            <a:ext cx="8186760" cy="2552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39880" y="955800"/>
            <a:ext cx="52405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2) Use of intrinsic fortran routine random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3) Use of random number generator Z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436840"/>
            <a:ext cx="715032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919760"/>
            <a:ext cx="715032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203364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6440" y="441000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84320" y="11286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27160" y="1100160"/>
            <a:ext cx="73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481040" y="120024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293920" y="3444840"/>
            <a:ext cx="5908680" cy="97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63640" y="4302000"/>
            <a:ext cx="1916280" cy="532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2440" y="4714920"/>
            <a:ext cx="171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iform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19800" y="1881360"/>
            <a:ext cx="306360" cy="1363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24600" y="1549440"/>
            <a:ext cx="65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32240" y="1549440"/>
            <a:ext cx="1852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dom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113080" y="1928880"/>
            <a:ext cx="27000" cy="1211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920" y="1587600"/>
            <a:ext cx="1552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iction coe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954000"/>
            <a:ext cx="7240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2) 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angevin thermostat requires special attention to th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fric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dom (Langevin) force random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sen at each step ac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 a normal law with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/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γ roughly corresponds to the time needed to equilibrate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higher γ, the faster your system is equilibra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γ (homogeneous to a frequency) should be chosen smaller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characteristic phonon frequencies of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&gt; a compromise must be found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070000" y="1909800"/>
                <a:ext cx="32832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019920" y="2820960"/>
                <a:ext cx="1363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6369120" y="2874960"/>
            <a:ext cx="361800" cy="36036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32040" y="2084400"/>
            <a:ext cx="362160" cy="36036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457360"/>
            <a:ext cx="2033640" cy="541440"/>
          </a:xfrm>
          <a:prstGeom prst="line">
            <a:avLst/>
          </a:prstGeom>
          <a:ln w="36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3800" y="1359000"/>
            <a:ext cx="82422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roduction: why studying quantum effects associ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o atomic motion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 - Path Integral (PI)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I - Technical points related to Path Integral Mole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ynamics (PIM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II – Implementation of PIMD in ABINIT, keyword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V – Langevin PIMD, choice of random number generato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V – Conclusion: in progress and futur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07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46440" y="1185840"/>
            <a:ext cx="630216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PIMD with ABINIT, NVT Lange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x of 20 H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olecules, P=20, 100 processors (// band-F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veral tests with </a:t>
            </a:r>
            <a:r>
              <a:rPr b="0" lang="fr-FR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V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1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5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(given in inverse atomic time un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mditemp= 2000 K; mdftemp = 1000 K, dtion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1) vis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5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0.9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165400" y="3394080"/>
            <a:ext cx="6397560" cy="2548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906640" y="490212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46440" y="1042920"/>
            <a:ext cx="26222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2) vis = 1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4.6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3) vis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9.3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130480" y="1380960"/>
            <a:ext cx="6356160" cy="22082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2141640" y="3841920"/>
            <a:ext cx="6369120" cy="2344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833560" y="267012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33560" y="5226120"/>
            <a:ext cx="5432400" cy="144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46440" y="1258920"/>
            <a:ext cx="642600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4) vis = 5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23.3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Rq: stretching vibration of H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molecule = 4160 cm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= 125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700280" y="1646280"/>
            <a:ext cx="6522840" cy="2870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546280" y="331776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04760" y="1643040"/>
            <a:ext cx="76644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 careful to the TIME STEP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usually, systems interesting for PIMD contain LIGHT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H, He, etc) =&gt; high phonon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The DEFAULT value of DTION is TOO high in such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fault value: dtion=100 (~ 2.10</a:t>
            </a:r>
            <a:r>
              <a:rPr b="0" lang="fr-FR" sz="2200" spc="-1" strike="noStrike" baseline="33000">
                <a:solidFill>
                  <a:srgbClr val="000000"/>
                </a:solidFill>
                <a:latin typeface="Arial"/>
              </a:rPr>
              <a:t>-15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06440" y="1422360"/>
            <a:ext cx="73249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PIMD works in NVT and NPT in the case of Lange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ynamics, in // (k-point, band, f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ose-Hoover chains implementation 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NVT and N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with P=1, one recovers classical dynamics =&gt; PI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lso involves classical MD (=&gt; new algorighms in ABIN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systems of intere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Li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ton transport in ox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06800" y="1531800"/>
            <a:ext cx="569736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ARALLELIZ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Loop over images : highly parallelizabl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currently IMPLEMENTED by M. TO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for all image algorith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will provide a 4</a:t>
            </a:r>
            <a:r>
              <a:rPr b="0" lang="fr-FR" sz="2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evel of // in AB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07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92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y studying quantum effects of atomic mot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74800" y="1258920"/>
            <a:ext cx="65660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antum effects of atomic motions are import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low the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Debye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CRUCIAL in the case of LIGHT elements, up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ery high temperatur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Debye T ~ 6000 K (vibr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e: liquid down to zero K (under 1 atm) becaus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antum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IMPORTANT for « ordinary solids »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bye temperature ~ RT or ab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76240" y="1258920"/>
            <a:ext cx="65898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ne way to account for quantum effects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(PI)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ased on the discretized version of Feynman's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gral applied to the density oper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for time evolution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for the canonical density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648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49640" y="3673440"/>
                <a:ext cx="5951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H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ds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236000" y="4692600"/>
                <a:ext cx="10191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β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49640" y="5248440"/>
                <a:ext cx="4335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H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33640" y="1757520"/>
                <a:ext cx="68119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89280" y="2530440"/>
                <a:ext cx="18064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ℏ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53280" y="2530440"/>
                <a:ext cx="1466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ℏ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H="1" flipV="1">
            <a:off x="3397320" y="2284560"/>
            <a:ext cx="347760" cy="25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386400" y="2284560"/>
            <a:ext cx="347760" cy="25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648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6240" y="1258920"/>
            <a:ext cx="363240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nonical partition fun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iscretized ver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08000" y="3384720"/>
                <a:ext cx="702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19160" y="4560840"/>
                <a:ext cx="3245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vec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08000" y="5003640"/>
                <a:ext cx="5372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08000" y="5400720"/>
                <a:ext cx="71344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...</m:t>
                                </m:r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5600" y="981000"/>
            <a:ext cx="720072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629280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76240" y="1258920"/>
            <a:ext cx="39578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pring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 = « Trotter »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 cyclic boundary condi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0480" y="1089000"/>
                <a:ext cx="287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67440" y="2451240"/>
            <a:ext cx="14400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48520" y="2630520"/>
                <a:ext cx="10825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224000" y="3627360"/>
            <a:ext cx="7581960" cy="97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12720" y="3781440"/>
                <a:ext cx="702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2720" y="5005440"/>
            <a:ext cx="8534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right member is the CLASSICAL partition function (for fixed Trotter number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following CLASSICAL system (of NxP partic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up to a multiplicative c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3024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95640" y="241308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44800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836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000" y="3240000"/>
            <a:ext cx="17964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600" y="31464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76240" y="29304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3520" y="23544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21240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6240" y="165564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9640" y="320364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2000" y="273672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2052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3456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2592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392436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6000" y="324000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62908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2360" y="4032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060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7640" y="3564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24360" y="287964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26836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0720" y="3672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280836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8720" y="2484360"/>
            <a:ext cx="612720" cy="3603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24360" y="252108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800" y="1494000"/>
            <a:ext cx="224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 (P=4, N=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194472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132000"/>
            <a:ext cx="648000" cy="1796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3640" y="334800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662200" y="3313080"/>
            <a:ext cx="363600" cy="72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2879640"/>
            <a:ext cx="395280" cy="287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67200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4572000"/>
            <a:ext cx="1079280" cy="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72960" y="3119400"/>
            <a:ext cx="183960" cy="5922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3720" y="2502000"/>
            <a:ext cx="81000" cy="4633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49240" y="2836800"/>
            <a:ext cx="196920" cy="527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9920" y="2951280"/>
            <a:ext cx="451080" cy="3855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1720" y="3747960"/>
            <a:ext cx="476280" cy="3985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12520" y="3349800"/>
            <a:ext cx="28440" cy="45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2160" y="3684600"/>
            <a:ext cx="541440" cy="3222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49200" y="3543480"/>
            <a:ext cx="247680" cy="604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487600"/>
            <a:ext cx="90360" cy="476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211360" y="2693880"/>
            <a:ext cx="273240" cy="514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1720" y="1947960"/>
            <a:ext cx="68400" cy="45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00920" y="2371680"/>
            <a:ext cx="488880" cy="3729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550200" y="2101680"/>
            <a:ext cx="234720" cy="6699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70120" y="3092400"/>
            <a:ext cx="1458720" cy="216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27400" y="2487600"/>
            <a:ext cx="839520" cy="604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65480" y="2489040"/>
            <a:ext cx="1647720" cy="51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13200" y="1909800"/>
            <a:ext cx="1379520" cy="630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494000" y="3284280"/>
            <a:ext cx="1441440" cy="269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31840" y="2809800"/>
            <a:ext cx="839880" cy="476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772080" y="2705040"/>
            <a:ext cx="1685880" cy="106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455800" y="2127240"/>
            <a:ext cx="1303560" cy="5796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40160" y="2706840"/>
            <a:ext cx="1300320" cy="468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52840" y="3173400"/>
            <a:ext cx="1689120" cy="1396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714760" y="3311640"/>
            <a:ext cx="839520" cy="7077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258920" y="4019400"/>
            <a:ext cx="1457280" cy="100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1080" y="3657240"/>
            <a:ext cx="1363680" cy="968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3320" y="2978280"/>
            <a:ext cx="968400" cy="682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9920" y="2911320"/>
            <a:ext cx="1737000" cy="68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76560" y="2346480"/>
            <a:ext cx="1251000" cy="566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11920" y="3440160"/>
            <a:ext cx="280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rmonic interaction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3727440"/>
                <a:ext cx="286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915160" y="4359240"/>
            <a:ext cx="325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Real potential » divided b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89480" y="1574640"/>
            <a:ext cx="1406520" cy="3225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189480" y="2079720"/>
            <a:ext cx="1406520" cy="3222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550200" y="2475000"/>
            <a:ext cx="1046160" cy="231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92760" y="1863720"/>
            <a:ext cx="1046160" cy="231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8040" y="1360440"/>
            <a:ext cx="55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9320" y="1649520"/>
            <a:ext cx="55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0" y="1865160"/>
            <a:ext cx="55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93120" y="2260440"/>
            <a:ext cx="55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54000" y="5006880"/>
            <a:ext cx="70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= « imaginary tim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mble of « quasi-particles » for fixed s = « imaginary time slic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6400" y="1330200"/>
            <a:ext cx="814068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ach quantum system has, for fixed P, a classical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« CLASSICAL ISOMORPHISM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the limit of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nite Trotter numbe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the physical EQUILIBRIUM proper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quantum system are the same as those of the classical equival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gets directly the observables in the CANONICAL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n be extended easily to the isothermal-isobaric (NPT)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x: Barrat, Loubeyre, Klein, J. Chem. Phys. 90, 5644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us, the EQUILIBRIUM properties of the classical equivalent system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ached by any CLASSICAL simulation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593800" y="4898880"/>
            <a:ext cx="1843200" cy="47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57760" y="4898880"/>
            <a:ext cx="1982880" cy="438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5389560"/>
            <a:ext cx="2857320" cy="587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5370480"/>
            <a:ext cx="2247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te Carlo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PI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77040" y="5365800"/>
            <a:ext cx="3222360" cy="63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57680" y="5370480"/>
            <a:ext cx="305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lecular Dynamic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PI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illabetL</dc:creator>
  <dc:description/>
  <dc:language>en-US</dc:language>
  <cp:lastModifiedBy>isabelle colinot</cp:lastModifiedBy>
  <dcterms:modified xsi:type="dcterms:W3CDTF">2011-04-12T22:09:25Z</dcterms:modified>
  <cp:revision>736</cp:revision>
  <dc:subject/>
  <dc:title>Développement d’une approche multi-échelle pour simuler le comportement de l’hydrogène sous forte sollicitation dynamique Application à la mise au point d’une cible pour l’étude des réaction de fusion pycno-nucléaires.</dc:title>
</cp:coreProperties>
</file>