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9D867-F5FB-4C6C-8CDC-9FBFADCB8C94}" type="datetime">
              <a:rPr b="0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5D081-059F-4B39-A5BD-BDE7B028DA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F3C68-77C3-4DC2-BCBC-D16259AAA1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binit.org/developers/abinit-dev-status/nightly-builds/abinit-6.7/build-status-6.7.htm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scussion on ABINIT: builds + tests +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Abinit workshop Han-sur-Les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62120" y="11426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forum.abinit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 3" descr="Screen shot 2011-04-09 at 17.42.37.png"/>
          <p:cNvPicPr/>
          <p:nvPr/>
        </p:nvPicPr>
        <p:blipFill>
          <a:blip r:embed="rId1"/>
          <a:stretch/>
        </p:blipFill>
        <p:spPr>
          <a:xfrm>
            <a:off x="185760" y="1981080"/>
            <a:ext cx="872964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2120" y="11426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um seems efficient and use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regiment topics bet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topic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announcements li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present tool sufficient for our nee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ourage identification of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3880" y="160020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some maintenance aspec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 system (extra slides from Yan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f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Please intervene and commen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uild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7720" y="14479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ong evolution since last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mation/recognition seems im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alg, plugins more clearly def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sues / problem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umentation, vocabulary: trio? flav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internet (tgz and bz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(different!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tom lines: developers and users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o are even more importa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fa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360" y="14479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 of the f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binit.org/developers/abinit-dev-status/nightly-builds/abinit-6.7/build-status-6.7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reen sho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mage 4" descr="Screen shot 2011-04-09 at 15.59.26.png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4125960"/>
          </a:xfrm>
          <a:prstGeom prst="rect">
            <a:avLst/>
          </a:prstGeom>
          <a:ln w="0">
            <a:noFill/>
          </a:ln>
        </p:spPr>
      </p:pic>
      <p:pic>
        <p:nvPicPr>
          <p:cNvPr id="52" name="Image 5" descr="Screen shot 2011-04-09 at 15.59.48.png"/>
          <p:cNvPicPr/>
          <p:nvPr/>
        </p:nvPicPr>
        <p:blipFill>
          <a:blip r:embed="rId3"/>
          <a:srcRect l="0" t="0" r="39506" b="0"/>
          <a:stretch/>
        </p:blipFill>
        <p:spPr>
          <a:xfrm>
            <a:off x="76320" y="4667400"/>
            <a:ext cx="899136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fa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440" y="14479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bots? Debug (g95)? Platform (eg more IBM)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for different testing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fic b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ick te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everyone know how to log into bb slav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fficient for merging needs (Xavier?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21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ality of present situ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simple fldiff precise enoug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improve portability? Tips for optimal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suite revamp is planned (Yann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runs in 1 « conceptual »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ython backb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b 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21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binit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web site? Some sub-pages clutt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 3" descr="Screen shot 2011-04-09 at 16.57.23.png"/>
          <p:cNvPicPr/>
          <p:nvPr/>
        </p:nvPicPr>
        <p:blipFill>
          <a:blip r:embed="rId1"/>
          <a:stretch/>
        </p:blipFill>
        <p:spPr>
          <a:xfrm>
            <a:off x="220680" y="3048120"/>
            <a:ext cx="87710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b 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212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als for simplification/ enhanced functional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e archives from current 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periodic table (or 1 NC + 1PA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site used as much as it could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inguish psp from core/AE density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we get file instead of xml from Plo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s to internet psp data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b 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12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sing / broken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amp front pa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down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ified me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CMS optimal? Other sugges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db with articles + input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7:43:19Z</dcterms:created>
  <dc:creator>Matthieu Verstraete</dc:creator>
  <dc:description/>
  <dc:language>en-US</dc:language>
  <cp:lastModifiedBy>Matthieu Verstraete</cp:lastModifiedBy>
  <dcterms:modified xsi:type="dcterms:W3CDTF">2011-04-11T11:32:28Z</dcterms:modified>
  <cp:revision>395</cp:revision>
  <dc:subject/>
  <dc:title>Unravelling surface magnetism: AuGd alloy structures</dc:title>
</cp:coreProperties>
</file>