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27.wmf" ContentType="image/x-wmf"/>
  <Override PartName="/ppt/media/image13.png" ContentType="image/png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wmf" ContentType="image/x-wmf"/>
  <Override PartName="/ppt/media/image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45.png" ContentType="image/png"/>
  <Override PartName="/ppt/media/image26.wmf" ContentType="image/x-wmf"/>
  <Override PartName="/ppt/media/image46.jpeg" ContentType="image/jpeg"/>
  <Override PartName="/ppt/media/image37.wmf" ContentType="image/x-wmf"/>
  <Override PartName="/ppt/media/image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35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0CD-6F48-4095-88C1-5F6D393C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A8C2-1CD0-4A5C-8C0F-569F7FBBC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16B-40F3-4200-A56E-6F23A7E86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08F3-B1F3-4CAD-B453-DDEBBB7E0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3FC-04C0-4097-BE9C-0580B687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C5A-A1E0-4D51-BB44-B03A010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986-76A5-47D1-A19A-CFCE6C1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9EB-025E-444F-A65B-CC47D7AE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8403-0ED9-451D-8908-89EE8FD4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204D-E385-4EC0-880F-4DBE599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9676-85F8-4213-9F61-7811B9E7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B084-32D3-43E1-9098-3413045D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539D-8B75-454A-BCC9-68DBCAFA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9DF-26EC-40CF-8594-9782E77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FEA0-F633-4803-BDBD-64B3A0E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979-B616-41BD-9815-D847D408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EF0B-9186-4681-A6DD-1328EC5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3A7A-C56D-4A52-9D20-1FFC2C4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6A35-B6A4-4F1B-A6C7-D690BD3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1FD4-3B5B-4441-9001-E595BB45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2719-1F91-4A92-8ED2-777555D4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C1D-5900-4D9F-B85F-7AF820B5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B47-CB47-4E00-9BC4-FA343FA4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BC3-CC0F-4363-B00E-F8F8C55C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D26-0B56-4327-95DE-B5474A0A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976-0A19-4218-9202-188E46F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779-841E-457F-8EC5-62496B11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B98-E1DC-4BA4-A7D6-8810F64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>
                  <a:gd name="textAreaLeft" fmla="*/ 0 w 3645000"/>
                  <a:gd name="textAreaRight" fmla="*/ 3645360 w 36450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3FF-CB05-43C0-AA04-3D854C731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>
                  <a:gd name="textAreaLeft" fmla="*/ 0 w 3645000"/>
                  <a:gd name="textAreaRight" fmla="*/ 3645360 w 36450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66D-F3D9-4372-ABAA-70212D49B5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9246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OCEAN and AI2NBSE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Palatino"/>
              </a:rPr>
              <a:t>postprocessors of ABINIT for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Palatino"/>
              </a:rPr>
              <a:t>Core and Valence Spectra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46748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.J.Reh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,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Palatino"/>
              </a:rPr>
              <a:t>John Vinson</a:t>
            </a:r>
            <a:r>
              <a:rPr b="0" lang="en-US" sz="3200" spc="-1" strike="noStrike" baseline="30000">
                <a:solidFill>
                  <a:srgbClr val="ffc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, E.L.Shirle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.J. Ka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d F. Vil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. of Washington Seattle, WA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.I.S.T. Gaithersburg, M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9" name="Picture 4" descr="&#13;NIST_Logo.jpg                                                  00074C4E_x000c_Macintosh HD                   C06A3687:"/>
          <p:cNvPicPr/>
          <p:nvPr/>
        </p:nvPicPr>
        <p:blipFill>
          <a:blip r:embed="rId1"/>
          <a:stretch/>
        </p:blipFill>
        <p:spPr>
          <a:xfrm>
            <a:off x="6629400" y="5867280"/>
            <a:ext cx="2212920" cy="75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81" descr="UW"/>
          <p:cNvPicPr/>
          <p:nvPr/>
        </p:nvPicPr>
        <p:blipFill>
          <a:blip r:embed="rId2"/>
          <a:stretch/>
        </p:blipFill>
        <p:spPr>
          <a:xfrm>
            <a:off x="304920" y="5867280"/>
            <a:ext cx="4190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1066680" y="3352680"/>
            <a:ext cx="64008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lectron-hole pair approxim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1066680" y="1600200"/>
            <a:ext cx="6858000" cy="838080"/>
            <a:chOff x="1066680" y="1600200"/>
            <a:chExt cx="6858000" cy="838080"/>
          </a:xfrm>
        </p:grpSpPr>
        <p:sp>
          <p:nvSpPr>
            <p:cNvPr id="184" name="Rectangle 4"/>
            <p:cNvSpPr/>
            <p:nvPr/>
          </p:nvSpPr>
          <p:spPr>
            <a:xfrm>
              <a:off x="1066680" y="1600200"/>
              <a:ext cx="6858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5" name="Picture 5" descr="_x0005_5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142640" y="1676160"/>
              <a:ext cx="673128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6"/>
          <p:cNvSpPr/>
          <p:nvPr/>
        </p:nvSpPr>
        <p:spPr>
          <a:xfrm flipH="1">
            <a:off x="1676160" y="2590920"/>
            <a:ext cx="19047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7" descr="_x0011_latex-image-1.pdf                                              00138091_x000c_Macintosh HD                   7C2607AA:"/>
          <p:cNvPicPr/>
          <p:nvPr/>
        </p:nvPicPr>
        <p:blipFill>
          <a:blip r:embed="rId2"/>
          <a:stretch/>
        </p:blipFill>
        <p:spPr>
          <a:xfrm>
            <a:off x="1600200" y="3429000"/>
            <a:ext cx="5322960" cy="7700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4"/>
          <p:cNvGrpSpPr/>
          <p:nvPr/>
        </p:nvGrpSpPr>
        <p:grpSpPr>
          <a:xfrm>
            <a:off x="1066680" y="4800600"/>
            <a:ext cx="1981080" cy="533160"/>
            <a:chOff x="1066680" y="4800600"/>
            <a:chExt cx="1981080" cy="533160"/>
          </a:xfrm>
        </p:grpSpPr>
        <p:sp>
          <p:nvSpPr>
            <p:cNvPr id="189" name="Rectangle 11"/>
            <p:cNvSpPr/>
            <p:nvPr/>
          </p:nvSpPr>
          <p:spPr>
            <a:xfrm>
              <a:off x="1066680" y="4800600"/>
              <a:ext cx="1981080" cy="53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Picture 9" descr="_x0011_latex-image-1.pdf                                              00138091_x000c_Macintosh HD                   7C2607AA:"/>
            <p:cNvPicPr/>
            <p:nvPr/>
          </p:nvPicPr>
          <p:blipFill>
            <a:blip r:embed="rId3"/>
            <a:stretch/>
          </p:blipFill>
          <p:spPr>
            <a:xfrm>
              <a:off x="1143000" y="4876560"/>
              <a:ext cx="186696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3"/>
          <p:cNvGrpSpPr/>
          <p:nvPr/>
        </p:nvGrpSpPr>
        <p:grpSpPr>
          <a:xfrm>
            <a:off x="1066680" y="5638680"/>
            <a:ext cx="1981080" cy="533520"/>
            <a:chOff x="1066680" y="5638680"/>
            <a:chExt cx="1981080" cy="533520"/>
          </a:xfrm>
        </p:grpSpPr>
        <p:sp>
          <p:nvSpPr>
            <p:cNvPr id="192" name="Rectangle 12"/>
            <p:cNvSpPr/>
            <p:nvPr/>
          </p:nvSpPr>
          <p:spPr>
            <a:xfrm>
              <a:off x="1066680" y="5638680"/>
              <a:ext cx="1981080" cy="53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Picture 10" descr="_x0011_latex-image-1.pdf                                              00138091_x000c_Macintosh HD                   7C2607AA:"/>
            <p:cNvPicPr/>
            <p:nvPr/>
          </p:nvPicPr>
          <p:blipFill>
            <a:blip r:embed="rId4"/>
            <a:stretch/>
          </p:blipFill>
          <p:spPr>
            <a:xfrm>
              <a:off x="1143000" y="5715000"/>
              <a:ext cx="185400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15"/>
          <p:cNvSpPr/>
          <p:nvPr/>
        </p:nvSpPr>
        <p:spPr>
          <a:xfrm>
            <a:off x="320040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io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2004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6933960" y="25909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5486400" y="5486400"/>
            <a:ext cx="2819520" cy="838080"/>
            <a:chOff x="5486400" y="5486400"/>
            <a:chExt cx="2819520" cy="838080"/>
          </a:xfrm>
        </p:grpSpPr>
        <p:sp>
          <p:nvSpPr>
            <p:cNvPr id="198" name="Rectangle 25"/>
            <p:cNvSpPr/>
            <p:nvPr/>
          </p:nvSpPr>
          <p:spPr>
            <a:xfrm>
              <a:off x="5486400" y="5486400"/>
              <a:ext cx="281952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9" name="Picture 24" descr="_x0011_latex-image-1.pdf                                              0013A09E_x000c_Macintosh HD                   7C2607AA:"/>
            <p:cNvPicPr/>
            <p:nvPr/>
          </p:nvPicPr>
          <p:blipFill>
            <a:blip r:embed="rId5"/>
            <a:stretch/>
          </p:blipFill>
          <p:spPr>
            <a:xfrm>
              <a:off x="5562720" y="5562360"/>
              <a:ext cx="267948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27"/>
          <p:cNvSpPr/>
          <p:nvPr/>
        </p:nvSpPr>
        <p:spPr>
          <a:xfrm>
            <a:off x="69343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066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AW Matrix Elements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685800" y="2743200"/>
            <a:ext cx="5181480" cy="838080"/>
            <a:chOff x="685800" y="2743200"/>
            <a:chExt cx="5181480" cy="838080"/>
          </a:xfrm>
        </p:grpSpPr>
        <p:sp>
          <p:nvSpPr>
            <p:cNvPr id="204" name="Rectangle 10"/>
            <p:cNvSpPr/>
            <p:nvPr/>
          </p:nvSpPr>
          <p:spPr>
            <a:xfrm>
              <a:off x="685800" y="2743200"/>
              <a:ext cx="518148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5" name="Picture 9" descr="_x0005_2.pdf                                                          000B9D51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762120" y="2819160"/>
              <a:ext cx="5067360" cy="70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42"/>
          <p:cNvGrpSpPr/>
          <p:nvPr/>
        </p:nvGrpSpPr>
        <p:grpSpPr>
          <a:xfrm>
            <a:off x="5029200" y="1676520"/>
            <a:ext cx="1523880" cy="457200"/>
            <a:chOff x="5029200" y="1676520"/>
            <a:chExt cx="1523880" cy="457200"/>
          </a:xfrm>
        </p:grpSpPr>
        <p:sp>
          <p:nvSpPr>
            <p:cNvPr id="207" name="AutoShape 25"/>
            <p:cNvSpPr/>
            <p:nvPr/>
          </p:nvSpPr>
          <p:spPr>
            <a:xfrm>
              <a:off x="5029200" y="16765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Picture 24" descr="_x0005_4.pdf                                                          0013607A_x000c_Macintosh HD                   7C2607AA:"/>
            <p:cNvPicPr/>
            <p:nvPr/>
          </p:nvPicPr>
          <p:blipFill>
            <a:blip r:embed="rId2"/>
            <a:stretch/>
          </p:blipFill>
          <p:spPr>
            <a:xfrm>
              <a:off x="5105520" y="1752480"/>
              <a:ext cx="1396800" cy="2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33"/>
          <p:cNvGrpSpPr/>
          <p:nvPr/>
        </p:nvGrpSpPr>
        <p:grpSpPr>
          <a:xfrm>
            <a:off x="914400" y="5257800"/>
            <a:ext cx="7238880" cy="1143000"/>
            <a:chOff x="914400" y="5257800"/>
            <a:chExt cx="7238880" cy="1143000"/>
          </a:xfrm>
        </p:grpSpPr>
        <p:sp>
          <p:nvSpPr>
            <p:cNvPr id="210" name="AutoShape 30"/>
            <p:cNvSpPr/>
            <p:nvPr/>
          </p:nvSpPr>
          <p:spPr>
            <a:xfrm>
              <a:off x="914400" y="5257800"/>
              <a:ext cx="7238880" cy="1143000"/>
            </a:xfrm>
            <a:prstGeom prst="roundRect">
              <a:avLst>
                <a:gd name="adj" fmla="val 37917"/>
              </a:avLst>
            </a:prstGeom>
            <a:solidFill>
              <a:srgbClr val="ffffff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Picture 32" descr="_x0011_latex-image-1.pdf                                              00138091_x000c_Macintosh HD                   7C2607AA:"/>
            <p:cNvPicPr/>
            <p:nvPr/>
          </p:nvPicPr>
          <p:blipFill>
            <a:blip r:embed="rId3"/>
            <a:stretch/>
          </p:blipFill>
          <p:spPr>
            <a:xfrm>
              <a:off x="1143000" y="5486400"/>
              <a:ext cx="681984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38"/>
          <p:cNvGrpSpPr/>
          <p:nvPr/>
        </p:nvGrpSpPr>
        <p:grpSpPr>
          <a:xfrm>
            <a:off x="685800" y="1295280"/>
            <a:ext cx="3809880" cy="838440"/>
            <a:chOff x="685800" y="1295280"/>
            <a:chExt cx="3809880" cy="838440"/>
          </a:xfrm>
        </p:grpSpPr>
        <p:sp>
          <p:nvSpPr>
            <p:cNvPr id="213" name="Rectangle 19"/>
            <p:cNvSpPr/>
            <p:nvPr/>
          </p:nvSpPr>
          <p:spPr>
            <a:xfrm>
              <a:off x="685800" y="1295280"/>
              <a:ext cx="3809880" cy="83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Picture 36" descr="_x0011_latex-image-1.pdf                                              00138091_x000c_Macintosh HD                   7C2607AA:"/>
            <p:cNvPicPr/>
            <p:nvPr/>
          </p:nvPicPr>
          <p:blipFill>
            <a:blip r:embed="rId4"/>
            <a:stretch/>
          </p:blipFill>
          <p:spPr>
            <a:xfrm>
              <a:off x="762120" y="1371600"/>
              <a:ext cx="3720960" cy="6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41"/>
          <p:cNvGrpSpPr/>
          <p:nvPr/>
        </p:nvGrpSpPr>
        <p:grpSpPr>
          <a:xfrm>
            <a:off x="990720" y="3733920"/>
            <a:ext cx="8001000" cy="838080"/>
            <a:chOff x="990720" y="3733920"/>
            <a:chExt cx="8001000" cy="838080"/>
          </a:xfrm>
        </p:grpSpPr>
        <p:sp>
          <p:nvSpPr>
            <p:cNvPr id="216" name="Rectangle 15"/>
            <p:cNvSpPr/>
            <p:nvPr/>
          </p:nvSpPr>
          <p:spPr>
            <a:xfrm>
              <a:off x="990720" y="3733920"/>
              <a:ext cx="8001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7" name="Picture 39" descr="_x0011_latex-image-1.pdf                                              00138091_x000c_Macintosh HD                   7C2607AA:"/>
            <p:cNvPicPr/>
            <p:nvPr/>
          </p:nvPicPr>
          <p:blipFill>
            <a:blip r:embed="rId5"/>
            <a:stretch/>
          </p:blipFill>
          <p:spPr>
            <a:xfrm>
              <a:off x="1067040" y="3809880"/>
              <a:ext cx="78483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Line 22"/>
          <p:cNvSpPr/>
          <p:nvPr/>
        </p:nvSpPr>
        <p:spPr>
          <a:xfrm>
            <a:off x="914400" y="1981080"/>
            <a:ext cx="228600" cy="685800"/>
          </a:xfrm>
          <a:prstGeom prst="line">
            <a:avLst/>
          </a:prstGeom>
          <a:ln w="76320">
            <a:solidFill>
              <a:srgbClr val="0099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re-Hole Screen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27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response from self-consistent HF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se neutralizing shell to divide vale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PA for short ran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odel dielectric for long ran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1523880" y="1371600"/>
            <a:ext cx="6019920" cy="533520"/>
            <a:chOff x="1523880" y="1371600"/>
            <a:chExt cx="6019920" cy="533520"/>
          </a:xfrm>
        </p:grpSpPr>
        <p:sp>
          <p:nvSpPr>
            <p:cNvPr id="222" name="Rectangle 5"/>
            <p:cNvSpPr/>
            <p:nvPr/>
          </p:nvSpPr>
          <p:spPr>
            <a:xfrm>
              <a:off x="1523880" y="1371600"/>
              <a:ext cx="6019920" cy="53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3" name="Picture 4" descr="_x0005_6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600200" y="1434960"/>
              <a:ext cx="59054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8"/>
          <p:cNvGrpSpPr/>
          <p:nvPr/>
        </p:nvGrpSpPr>
        <p:grpSpPr>
          <a:xfrm>
            <a:off x="304920" y="4952880"/>
            <a:ext cx="8458200" cy="838080"/>
            <a:chOff x="304920" y="4952880"/>
            <a:chExt cx="8458200" cy="838080"/>
          </a:xfrm>
        </p:grpSpPr>
        <p:sp>
          <p:nvSpPr>
            <p:cNvPr id="225" name="Rectangle 7"/>
            <p:cNvSpPr/>
            <p:nvPr/>
          </p:nvSpPr>
          <p:spPr>
            <a:xfrm>
              <a:off x="304920" y="4952880"/>
              <a:ext cx="84582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Picture 6" descr="_x0011_latex-image-1.pdf                                              00136639_x000c_Macintosh HD                   7C2607AA:"/>
            <p:cNvPicPr/>
            <p:nvPr/>
          </p:nvPicPr>
          <p:blipFill>
            <a:blip r:embed="rId2"/>
            <a:stretch/>
          </p:blipFill>
          <p:spPr>
            <a:xfrm>
              <a:off x="381240" y="5029200"/>
              <a:ext cx="83059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13"/>
          <p:cNvSpPr/>
          <p:nvPr/>
        </p:nvSpPr>
        <p:spPr>
          <a:xfrm>
            <a:off x="361800" y="6249960"/>
            <a:ext cx="54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Hybersten and Louie, Phys Rev B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5585 (198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W Many-pole self-energ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tension of Hedin-Lundqvist plasmon-pol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PSE (Kas et al.*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lculate loss fun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with </a:t>
            </a:r>
            <a:r>
              <a:rPr b="0" lang="en-US" sz="2800" spc="-1" strike="noStrike">
                <a:solidFill>
                  <a:srgbClr val="ffc000"/>
                </a:solidFill>
                <a:latin typeface="Palatino"/>
              </a:rPr>
              <a:t>AI2NB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odel as a series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f (many) pol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pply as convol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57200" y="6324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J.J. Kas et. al, Phys Rev B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76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, 195116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6" descr="_x0008_mpse.pdf                                                       000B9D6D_x000c_Macintosh HD                   7C2607AA:"/>
          <p:cNvPicPr/>
          <p:nvPr/>
        </p:nvPicPr>
        <p:blipFill>
          <a:blip r:embed="rId1"/>
          <a:srcRect l="9092" t="4707" r="2728" b="7060"/>
          <a:stretch/>
        </p:blipFill>
        <p:spPr>
          <a:xfrm>
            <a:off x="4952880" y="3048120"/>
            <a:ext cx="4191120" cy="3240000"/>
          </a:xfrm>
          <a:prstGeom prst="rect">
            <a:avLst/>
          </a:prstGeom>
          <a:ln w="15840">
            <a:solidFill>
              <a:srgbClr val="000514"/>
            </a:solidFill>
            <a:miter/>
          </a:ln>
        </p:spPr>
      </p:pic>
      <p:sp>
        <p:nvSpPr>
          <p:cNvPr id="232" name="Text Box 7"/>
          <p:cNvSpPr/>
          <p:nvPr/>
        </p:nvSpPr>
        <p:spPr>
          <a:xfrm>
            <a:off x="7467480" y="3733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LiF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24-Point Star 92"/>
          <p:cNvSpPr/>
          <p:nvPr/>
        </p:nvSpPr>
        <p:spPr>
          <a:xfrm>
            <a:off x="241200" y="5473800"/>
            <a:ext cx="2400480" cy="1282680"/>
          </a:xfrm>
          <a:custGeom>
            <a:avLst/>
            <a:gdLst>
              <a:gd name="textAreaLeft" fmla="*/ 547920 w 2400480"/>
              <a:gd name="textAreaRight" fmla="*/ 1852560 w 240048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ounded Rectangle 24"/>
          <p:cNvSpPr/>
          <p:nvPr/>
        </p:nvSpPr>
        <p:spPr>
          <a:xfrm>
            <a:off x="4606920" y="2997360"/>
            <a:ext cx="1035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Diamond 20"/>
          <p:cNvSpPr/>
          <p:nvPr/>
        </p:nvSpPr>
        <p:spPr>
          <a:xfrm>
            <a:off x="3683160" y="1434960"/>
            <a:ext cx="2895480" cy="1162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latino"/>
              </a:rPr>
              <a:t>OCEAN Packag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237" name="Group 16"/>
          <p:cNvGrpSpPr/>
          <p:nvPr/>
        </p:nvGrpSpPr>
        <p:grpSpPr>
          <a:xfrm>
            <a:off x="457200" y="1622520"/>
            <a:ext cx="2425680" cy="838080"/>
            <a:chOff x="457200" y="1622520"/>
            <a:chExt cx="2425680" cy="838080"/>
          </a:xfrm>
        </p:grpSpPr>
        <p:sp>
          <p:nvSpPr>
            <p:cNvPr id="238" name="Rounded Rectangle 2"/>
            <p:cNvSpPr/>
            <p:nvPr/>
          </p:nvSpPr>
          <p:spPr>
            <a:xfrm>
              <a:off x="457200" y="1622520"/>
              <a:ext cx="20383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bad"/>
                </a:gs>
                <a:gs pos="100000">
                  <a:srgbClr val="00a6e9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Box 3"/>
            <p:cNvSpPr/>
            <p:nvPr/>
          </p:nvSpPr>
          <p:spPr>
            <a:xfrm>
              <a:off x="691920" y="1755720"/>
              <a:ext cx="21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82d75"/>
                  </a:solidFill>
                  <a:latin typeface="Times New Roman"/>
                </a:rPr>
                <a:t>Structu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TextBox 6"/>
          <p:cNvSpPr/>
          <p:nvPr/>
        </p:nvSpPr>
        <p:spPr>
          <a:xfrm>
            <a:off x="411480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DFT/ABI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14"/>
          <p:cNvGrpSpPr/>
          <p:nvPr/>
        </p:nvGrpSpPr>
        <p:grpSpPr>
          <a:xfrm>
            <a:off x="2514600" y="4222800"/>
            <a:ext cx="1035000" cy="838080"/>
            <a:chOff x="2514600" y="4222800"/>
            <a:chExt cx="1035000" cy="838080"/>
          </a:xfrm>
        </p:grpSpPr>
        <p:sp>
          <p:nvSpPr>
            <p:cNvPr id="242" name="Rounded Rectangle 7"/>
            <p:cNvSpPr/>
            <p:nvPr/>
          </p:nvSpPr>
          <p:spPr>
            <a:xfrm>
              <a:off x="2514600" y="4222800"/>
              <a:ext cx="10350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bad"/>
                </a:gs>
                <a:gs pos="100000">
                  <a:srgbClr val="00a6e9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Picture 12" descr=""/>
            <p:cNvPicPr/>
            <p:nvPr/>
          </p:nvPicPr>
          <p:blipFill>
            <a:blip r:embed="rId1"/>
            <a:stretch/>
          </p:blipFill>
          <p:spPr>
            <a:xfrm>
              <a:off x="2711160" y="4408200"/>
              <a:ext cx="63504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19" descr=""/>
          <p:cNvPicPr/>
          <p:nvPr/>
        </p:nvPicPr>
        <p:blipFill>
          <a:blip r:embed="rId2"/>
          <a:stretch/>
        </p:blipFill>
        <p:spPr>
          <a:xfrm>
            <a:off x="4667400" y="3251160"/>
            <a:ext cx="914400" cy="33012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22"/>
          <p:cNvCxnSpPr>
            <a:endCxn id="235" idx="1"/>
          </p:cNvCxnSpPr>
          <p:nvPr/>
        </p:nvCxnSpPr>
        <p:spPr>
          <a:xfrm>
            <a:off x="2495160" y="2015640"/>
            <a:ext cx="118836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46" name="Straight Arrow Connector 27"/>
          <p:cNvCxnSpPr>
            <a:stCxn id="235" idx="2"/>
            <a:endCxn id="234" idx="0"/>
          </p:cNvCxnSpPr>
          <p:nvPr/>
        </p:nvCxnSpPr>
        <p:spPr>
          <a:xfrm flipH="1">
            <a:off x="5123880" y="2597040"/>
            <a:ext cx="6840" cy="40104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sp>
        <p:nvSpPr>
          <p:cNvPr id="247" name="Diamond 34"/>
          <p:cNvSpPr/>
          <p:nvPr/>
        </p:nvSpPr>
        <p:spPr>
          <a:xfrm>
            <a:off x="2387520" y="2997360"/>
            <a:ext cx="129564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35" descr=""/>
          <p:cNvPicPr/>
          <p:nvPr/>
        </p:nvPicPr>
        <p:blipFill>
          <a:blip r:embed="rId3"/>
          <a:stretch/>
        </p:blipFill>
        <p:spPr>
          <a:xfrm>
            <a:off x="2832120" y="3251160"/>
            <a:ext cx="406440" cy="330120"/>
          </a:xfrm>
          <a:prstGeom prst="rect">
            <a:avLst/>
          </a:prstGeom>
          <a:ln w="0">
            <a:noFill/>
          </a:ln>
        </p:spPr>
      </p:pic>
      <p:sp>
        <p:nvSpPr>
          <p:cNvPr id="249" name="Diamond 36"/>
          <p:cNvSpPr/>
          <p:nvPr/>
        </p:nvSpPr>
        <p:spPr>
          <a:xfrm>
            <a:off x="6950160" y="1622520"/>
            <a:ext cx="202572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7086600" y="1787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HF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Straight Arrow Connector 40"/>
          <p:cNvCxnSpPr>
            <a:stCxn id="234" idx="1"/>
            <a:endCxn id="247" idx="3"/>
          </p:cNvCxnSpPr>
          <p:nvPr/>
        </p:nvCxnSpPr>
        <p:spPr>
          <a:xfrm flipH="1">
            <a:off x="3682800" y="3416040"/>
            <a:ext cx="92448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52" name="Straight Arrow Connector 46"/>
          <p:cNvCxnSpPr>
            <a:stCxn id="247" idx="2"/>
            <a:endCxn id="242" idx="0"/>
          </p:cNvCxnSpPr>
          <p:nvPr/>
        </p:nvCxnSpPr>
        <p:spPr>
          <a:xfrm flipH="1">
            <a:off x="3031920" y="3835440"/>
            <a:ext cx="3600" cy="388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sp>
        <p:nvSpPr>
          <p:cNvPr id="253" name="Diamond 50"/>
          <p:cNvSpPr/>
          <p:nvPr/>
        </p:nvSpPr>
        <p:spPr>
          <a:xfrm>
            <a:off x="4073400" y="5705640"/>
            <a:ext cx="202572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51"/>
          <p:cNvSpPr/>
          <p:nvPr/>
        </p:nvSpPr>
        <p:spPr>
          <a:xfrm>
            <a:off x="4416480" y="585324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ounded Rectangle 53"/>
          <p:cNvSpPr/>
          <p:nvPr/>
        </p:nvSpPr>
        <p:spPr>
          <a:xfrm>
            <a:off x="7629480" y="2881440"/>
            <a:ext cx="666720" cy="838080"/>
          </a:xfrm>
          <a:custGeom>
            <a:avLst/>
            <a:gdLst>
              <a:gd name="textAreaLeft" fmla="*/ 32400 w 666720"/>
              <a:gd name="textAreaRight" fmla="*/ 634320 w 666720"/>
              <a:gd name="textAreaTop" fmla="*/ 32400 h 838080"/>
              <a:gd name="textAreaBottom" fmla="*/ 805680 h 838080"/>
            </a:gdLst>
            <a:ahLst/>
            <a:rect l="textAreaLeft" t="textAreaTop" r="textAreaRight" b="textAreaBottom"/>
            <a:pathLst>
              <a:path w="21600" h="27149">
                <a:moveTo>
                  <a:pt x="3600" y="0"/>
                </a:moveTo>
                <a:arcTo wR="3600" hR="3600" stAng="16200000" swAng="-5400000"/>
                <a:lnTo>
                  <a:pt x="0" y="23549"/>
                </a:lnTo>
                <a:arcTo wR="3600" hR="3600" stAng="10800000" swAng="-5400000"/>
                <a:lnTo>
                  <a:pt x="18000" y="27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ounded Rectangle 57"/>
          <p:cNvSpPr/>
          <p:nvPr/>
        </p:nvSpPr>
        <p:spPr>
          <a:xfrm>
            <a:off x="5756400" y="4222800"/>
            <a:ext cx="150156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9" descr=""/>
          <p:cNvPicPr/>
          <p:nvPr/>
        </p:nvPicPr>
        <p:blipFill>
          <a:blip r:embed="rId4"/>
          <a:stretch/>
        </p:blipFill>
        <p:spPr>
          <a:xfrm>
            <a:off x="5986440" y="4448160"/>
            <a:ext cx="1041480" cy="368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0" descr=""/>
          <p:cNvPicPr/>
          <p:nvPr/>
        </p:nvPicPr>
        <p:blipFill>
          <a:blip r:embed="rId5"/>
          <a:stretch/>
        </p:blipFill>
        <p:spPr>
          <a:xfrm>
            <a:off x="7834320" y="3174840"/>
            <a:ext cx="203040" cy="241560"/>
          </a:xfrm>
          <a:prstGeom prst="rect">
            <a:avLst/>
          </a:prstGeom>
          <a:ln w="0">
            <a:noFill/>
          </a:ln>
        </p:spPr>
      </p:pic>
      <p:cxnSp>
        <p:nvCxnSpPr>
          <p:cNvPr id="259" name="Straight Arrow Connector 61"/>
          <p:cNvCxnSpPr>
            <a:stCxn id="234" idx="2"/>
            <a:endCxn id="253" idx="0"/>
          </p:cNvCxnSpPr>
          <p:nvPr/>
        </p:nvCxnSpPr>
        <p:spPr>
          <a:xfrm flipH="1">
            <a:off x="5086080" y="3835080"/>
            <a:ext cx="38880" cy="187092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0" name="Straight Arrow Connector 69"/>
          <p:cNvCxnSpPr>
            <a:endCxn id="242" idx="3"/>
          </p:cNvCxnSpPr>
          <p:nvPr/>
        </p:nvCxnSpPr>
        <p:spPr>
          <a:xfrm flipH="1">
            <a:off x="3549240" y="4641480"/>
            <a:ext cx="155952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1" name="Straight Arrow Connector 73"/>
          <p:cNvCxnSpPr/>
          <p:nvPr/>
        </p:nvCxnSpPr>
        <p:spPr>
          <a:xfrm flipH="1">
            <a:off x="5076000" y="5314680"/>
            <a:ext cx="288684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2" name="Straight Arrow Connector 75"/>
          <p:cNvCxnSpPr/>
          <p:nvPr/>
        </p:nvCxnSpPr>
        <p:spPr>
          <a:xfrm flipV="1">
            <a:off x="7962480" y="3719160"/>
            <a:ext cx="1080" cy="159624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3" name="Straight Arrow Connector 78"/>
          <p:cNvCxnSpPr>
            <a:stCxn id="256" idx="2"/>
          </p:cNvCxnSpPr>
          <p:nvPr/>
        </p:nvCxnSpPr>
        <p:spPr>
          <a:xfrm>
            <a:off x="6506640" y="5060880"/>
            <a:ext cx="1080" cy="2548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sp>
        <p:nvSpPr>
          <p:cNvPr id="264" name="TextBox 88"/>
          <p:cNvSpPr/>
          <p:nvPr/>
        </p:nvSpPr>
        <p:spPr>
          <a:xfrm>
            <a:off x="841320" y="585324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d75"/>
                </a:solidFill>
                <a:latin typeface="Times New Roman"/>
              </a:rPr>
              <a:t>Spec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5" name="Straight Arrow Connector 93"/>
          <p:cNvCxnSpPr>
            <a:stCxn id="253" idx="1"/>
          </p:cNvCxnSpPr>
          <p:nvPr/>
        </p:nvCxnSpPr>
        <p:spPr>
          <a:xfrm flipH="1">
            <a:off x="2640960" y="6124320"/>
            <a:ext cx="143244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6" name="Straight Arrow Connector 96"/>
          <p:cNvCxnSpPr>
            <a:stCxn id="238" idx="2"/>
            <a:endCxn id="233" idx="0"/>
          </p:cNvCxnSpPr>
          <p:nvPr/>
        </p:nvCxnSpPr>
        <p:spPr>
          <a:xfrm flipH="1">
            <a:off x="1440720" y="2460600"/>
            <a:ext cx="35640" cy="3013920"/>
          </a:xfrm>
          <a:prstGeom prst="straightConnector1">
            <a:avLst/>
          </a:prstGeom>
          <a:ln w="76320">
            <a:solidFill>
              <a:srgbClr val="753fce"/>
            </a:solidFill>
            <a:prstDash val="sysDash"/>
            <a:miter/>
            <a:tailEnd len="med" type="triangle" w="med"/>
          </a:ln>
        </p:spPr>
      </p:cxnSp>
      <p:cxnSp>
        <p:nvCxnSpPr>
          <p:cNvPr id="267" name="Straight Arrow Connector 99"/>
          <p:cNvCxnSpPr>
            <a:stCxn id="249" idx="2"/>
            <a:endCxn id="255" idx="0"/>
          </p:cNvCxnSpPr>
          <p:nvPr/>
        </p:nvCxnSpPr>
        <p:spPr>
          <a:xfrm>
            <a:off x="7962480" y="2460240"/>
            <a:ext cx="1080" cy="42156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8" name="Straight Arrow Connector 42"/>
          <p:cNvCxnSpPr>
            <a:stCxn id="234" idx="3"/>
            <a:endCxn id="256" idx="0"/>
          </p:cNvCxnSpPr>
          <p:nvPr/>
        </p:nvCxnSpPr>
        <p:spPr>
          <a:xfrm>
            <a:off x="5641560" y="3416400"/>
            <a:ext cx="865800" cy="80712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9" name="Straight Arrow Connector 47"/>
          <p:cNvCxnSpPr>
            <a:stCxn id="255" idx="1"/>
            <a:endCxn id="256" idx="0"/>
          </p:cNvCxnSpPr>
          <p:nvPr/>
        </p:nvCxnSpPr>
        <p:spPr>
          <a:xfrm flipH="1">
            <a:off x="6507000" y="3300480"/>
            <a:ext cx="1122840" cy="92304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 Li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of LiF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71" name="Picture 4" descr="&#9;fig1a.pdf                                                      000D4CDB_x000c_Macintosh HD                   7C2607AA:"/>
          <p:cNvPicPr/>
          <p:nvPr/>
        </p:nvPicPr>
        <p:blipFill>
          <a:blip r:embed="rId1"/>
          <a:srcRect l="6365" t="3530" r="909" b="8236"/>
          <a:stretch/>
        </p:blipFill>
        <p:spPr>
          <a:xfrm>
            <a:off x="457200" y="1447920"/>
            <a:ext cx="6553080" cy="5011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5"/>
          <p:cNvSpPr/>
          <p:nvPr/>
        </p:nvSpPr>
        <p:spPr>
          <a:xfrm>
            <a:off x="7010280" y="20574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K. Handa et. al, Memoires Sr. Center Ritsumeika Univ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6858000" y="20574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_x0007_OvO.pdf                                                        000D4CDB_x000c_Macintosh HD                   7C2607AA:"/>
          <p:cNvPicPr/>
          <p:nvPr/>
        </p:nvPicPr>
        <p:blipFill>
          <a:blip r:embed="rId1"/>
          <a:srcRect l="5455" t="5883" r="4546" b="7060"/>
          <a:stretch/>
        </p:blipFill>
        <p:spPr>
          <a:xfrm>
            <a:off x="228600" y="1539720"/>
            <a:ext cx="6629400" cy="495468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</a:t>
            </a: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Li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of LiF </a:t>
            </a:r>
            <a:br>
              <a:rPr sz="3600"/>
            </a:br>
            <a:r>
              <a:rPr b="1" lang="en-US" sz="2800" spc="-1" strike="noStrike">
                <a:solidFill>
                  <a:srgbClr val="e5e5ff"/>
                </a:solidFill>
                <a:latin typeface="Palatino"/>
              </a:rPr>
              <a:t>Comparison with EXC!TING* (</a:t>
            </a:r>
            <a:r>
              <a:rPr b="1" lang="en-US" sz="2800" spc="-1" strike="noStrike">
                <a:solidFill>
                  <a:srgbClr val="e5e5ff"/>
                </a:solidFill>
                <a:latin typeface="Palatino"/>
                <a:ea typeface="Arial"/>
              </a:rPr>
              <a:t>NO  MPSE)</a:t>
            </a:r>
            <a:br>
              <a:rPr sz="36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8600" y="64771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*W. Olovsson et. al, Phys Rev B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 79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041102(R)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708660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 M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 F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in LiF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80" name="Picture 3" descr="_x000e_LiF_FwMP2a.pdf                                                 000D4CDB_x000c_Macintosh HD                   7C2607AA:"/>
          <p:cNvPicPr/>
          <p:nvPr/>
        </p:nvPicPr>
        <p:blipFill>
          <a:blip r:embed="rId1"/>
          <a:srcRect l="6365" t="3530" r="909" b="8236"/>
          <a:stretch/>
        </p:blipFill>
        <p:spPr>
          <a:xfrm>
            <a:off x="304920" y="1447920"/>
            <a:ext cx="6781680" cy="498780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81" name="Text Box 4"/>
          <p:cNvSpPr/>
          <p:nvPr/>
        </p:nvSpPr>
        <p:spPr>
          <a:xfrm>
            <a:off x="228600" y="64771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E. Hudson et. al, Phys. Rev. B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49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3701 (199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086600" y="21049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ce: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O K edge XA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84" name="Picture 5" descr="_x0012_ices_xas_jan27.pdf                                             000D4B83_x000c_Macintosh HD                   7C2607AA:"/>
          <p:cNvPicPr/>
          <p:nvPr/>
        </p:nvPicPr>
        <p:blipFill>
          <a:blip r:embed="rId1"/>
          <a:srcRect l="5455" t="4707" r="909" b="5883"/>
          <a:stretch/>
        </p:blipFill>
        <p:spPr>
          <a:xfrm>
            <a:off x="380880" y="1600200"/>
            <a:ext cx="6629400" cy="489096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85" name="Text Box 8"/>
          <p:cNvSpPr/>
          <p:nvPr/>
        </p:nvSpPr>
        <p:spPr>
          <a:xfrm>
            <a:off x="533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7010280" y="224316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molecule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6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04920" y="649116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P. Wernet et. al, Science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304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995 (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228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ample: </a:t>
            </a:r>
            <a:r>
              <a:rPr b="0" i="1" lang="en-US" sz="3200" spc="-1" strike="noStrike">
                <a:solidFill>
                  <a:srgbClr val="ffffff"/>
                </a:solidFill>
                <a:latin typeface="Palatino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edge Spectra – Multiplet effect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4570560" y="1295280"/>
          <a:ext cx="4573440" cy="30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0560" y="1295280"/>
                    <a:ext cx="457344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8"/>
          <p:cNvSpPr/>
          <p:nvPr/>
        </p:nvSpPr>
        <p:spPr>
          <a:xfrm>
            <a:off x="4952880" y="838080"/>
            <a:ext cx="38862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i   L</a:t>
            </a:r>
            <a:r>
              <a:rPr b="0" lang="en-US" sz="2400" spc="-1" strike="noStrike" baseline="-26000">
                <a:solidFill>
                  <a:srgbClr val="ffffff"/>
                </a:solidFill>
                <a:latin typeface="Palatino"/>
              </a:rPr>
              <a:t>2,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edge    SrTiO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4343400" y="6334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12" descr="TP_tmp.emf"/>
          <p:cNvPicPr/>
          <p:nvPr/>
        </p:nvPicPr>
        <p:blipFill>
          <a:blip r:embed="rId3"/>
          <a:stretch/>
        </p:blipFill>
        <p:spPr>
          <a:xfrm>
            <a:off x="609480" y="4267080"/>
            <a:ext cx="276876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TP_tmp.emf"/>
          <p:cNvPicPr/>
          <p:nvPr/>
        </p:nvPicPr>
        <p:blipFill>
          <a:blip r:embed="rId4"/>
          <a:stretch/>
        </p:blipFill>
        <p:spPr>
          <a:xfrm>
            <a:off x="838080" y="6019920"/>
            <a:ext cx="2362320" cy="3301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7"/>
          <p:cNvSpPr/>
          <p:nvPr/>
        </p:nvSpPr>
        <p:spPr>
          <a:xfrm>
            <a:off x="4343400" y="43434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cf.  De Groot et al – Ato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model + crystal-field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20" descr="TP_tmp.emf"/>
          <p:cNvPicPr/>
          <p:nvPr/>
        </p:nvPicPr>
        <p:blipFill>
          <a:blip r:embed="rId5"/>
          <a:stretch/>
        </p:blipFill>
        <p:spPr>
          <a:xfrm>
            <a:off x="838080" y="4800600"/>
            <a:ext cx="2311560" cy="33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2" descr="TP_tmp.emf"/>
          <p:cNvPicPr/>
          <p:nvPr/>
        </p:nvPicPr>
        <p:blipFill>
          <a:blip r:embed="rId6"/>
          <a:stretch/>
        </p:blipFill>
        <p:spPr>
          <a:xfrm>
            <a:off x="838080" y="5334120"/>
            <a:ext cx="3098880" cy="431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TP_tmp.emf"/>
          <p:cNvPicPr/>
          <p:nvPr/>
        </p:nvPicPr>
        <p:blipFill>
          <a:blip r:embed="rId7"/>
          <a:stretch/>
        </p:blipFill>
        <p:spPr>
          <a:xfrm>
            <a:off x="5689440" y="5410080"/>
            <a:ext cx="2387880" cy="330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TP_tmp.emf"/>
          <p:cNvPicPr/>
          <p:nvPr/>
        </p:nvPicPr>
        <p:blipFill>
          <a:blip r:embed="rId8"/>
          <a:stretch/>
        </p:blipFill>
        <p:spPr>
          <a:xfrm>
            <a:off x="5689440" y="6019920"/>
            <a:ext cx="3378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Object 13"/>
          <p:cNvGraphicFramePr/>
          <p:nvPr/>
        </p:nvGraphicFramePr>
        <p:xfrm>
          <a:off x="144360" y="1219320"/>
          <a:ext cx="4732560" cy="12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360" y="1219320"/>
                    <a:ext cx="4732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Box 17"/>
          <p:cNvSpPr/>
          <p:nvPr/>
        </p:nvSpPr>
        <p:spPr>
          <a:xfrm>
            <a:off x="304920" y="23623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J. Elec.Spect. Rel. Phen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4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187(200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80880" y="28954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á E. Shirley:   BS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KS crystal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 initi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 no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traight Connector 21"/>
          <p:cNvSpPr/>
          <p:nvPr/>
        </p:nvSpPr>
        <p:spPr>
          <a:xfrm flipH="1">
            <a:off x="2286000" y="533412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Palatino"/>
              </a:rPr>
              <a:t>aka SKWIGGLi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ectra from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space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ve-functions with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teractions,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adually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ting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Li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ke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xperi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ni2.ps"/>
          <p:cNvPicPr/>
          <p:nvPr/>
        </p:nvPicPr>
        <p:blipFill>
          <a:blip r:embed="rId1"/>
          <a:stretch/>
        </p:blipFill>
        <p:spPr>
          <a:xfrm>
            <a:off x="685800" y="3124080"/>
            <a:ext cx="3176640" cy="4110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v2.ps"/>
          <p:cNvPicPr/>
          <p:nvPr/>
        </p:nvPicPr>
        <p:blipFill>
          <a:blip r:embed="rId2"/>
          <a:stretch/>
        </p:blipFill>
        <p:spPr>
          <a:xfrm>
            <a:off x="353880" y="-304920"/>
            <a:ext cx="3532320" cy="4572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Screen shot 2011-03-23 at 10.03.29 AM.png"/>
          <p:cNvPicPr/>
          <p:nvPr/>
        </p:nvPicPr>
        <p:blipFill>
          <a:blip r:embed="rId3"/>
          <a:stretch/>
        </p:blipFill>
        <p:spPr>
          <a:xfrm>
            <a:off x="5092560" y="1285920"/>
            <a:ext cx="3213360" cy="54356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0"/>
          <p:cNvSpPr/>
          <p:nvPr/>
        </p:nvSpPr>
        <p:spPr>
          <a:xfrm>
            <a:off x="54864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PRL </a:t>
            </a: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45</a:t>
            </a: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,  397 (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1981080" y="2522520"/>
            <a:ext cx="2362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  <a:ea typeface="Arial"/>
              </a:rPr>
              <a:t>V   L</a:t>
            </a:r>
            <a:r>
              <a:rPr b="0" lang="en-US" sz="32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1981080" y="4038480"/>
            <a:ext cx="2362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  <a:ea typeface="Arial"/>
              </a:rPr>
              <a:t>Ni   L</a:t>
            </a:r>
            <a:r>
              <a:rPr b="0" lang="en-US" sz="32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4419720" y="53352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  <a:ea typeface="Arial"/>
              </a:rPr>
              <a:t>  Transition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mdw"/>
          <p:cNvPicPr/>
          <p:nvPr/>
        </p:nvPicPr>
        <p:blipFill>
          <a:blip r:embed="rId1"/>
          <a:stretch/>
        </p:blipFill>
        <p:spPr>
          <a:xfrm>
            <a:off x="457200" y="914400"/>
            <a:ext cx="8245440" cy="20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1219320" y="3429000"/>
                <a:ext cx="3857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th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5"/>
              <p:cNvSpPr txBox="1"/>
              <p:nvPr/>
            </p:nvSpPr>
            <p:spPr>
              <a:xfrm>
                <a:off x="1143000" y="4648320"/>
                <a:ext cx="44974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ep Lanczos recursio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Text Box 6"/>
          <p:cNvSpPr/>
          <p:nvPr/>
        </p:nvSpPr>
        <p:spPr>
          <a:xfrm>
            <a:off x="152280" y="152280"/>
            <a:ext cx="8763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XAS Debye Waller Factors 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r>
              <a:rPr b="0" i="1" lang="el-G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304920" y="6324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*Phys. Rev.  B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76,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014301 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7696080" y="1600200"/>
            <a:ext cx="762120" cy="764280"/>
            <a:chOff x="7696080" y="1600200"/>
            <a:chExt cx="762120" cy="764280"/>
          </a:xfrm>
        </p:grpSpPr>
        <p:sp>
          <p:nvSpPr>
            <p:cNvPr id="318" name="Oval 5"/>
            <p:cNvSpPr/>
            <p:nvPr/>
          </p:nvSpPr>
          <p:spPr>
            <a:xfrm>
              <a:off x="7696080" y="1600200"/>
              <a:ext cx="762120" cy="762120"/>
            </a:xfrm>
            <a:prstGeom prst="ellipse">
              <a:avLst/>
            </a:prstGeom>
            <a:noFill/>
            <a:ln w="88920">
              <a:solidFill>
                <a:srgbClr val="0000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7772040" y="160020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4400" spc="-1" strike="noStrike">
                  <a:solidFill>
                    <a:srgbClr val="0000f2"/>
                  </a:solidFill>
                  <a:latin typeface="Times New Roman"/>
                  <a:ea typeface="Arial"/>
                </a:rPr>
                <a:t>Ψ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 flipH="1">
              <a:off x="7772040" y="1752480"/>
              <a:ext cx="609840" cy="457200"/>
            </a:xfrm>
            <a:prstGeom prst="line">
              <a:avLst/>
            </a:prstGeom>
            <a:ln w="88920">
              <a:solidFill>
                <a:srgbClr val="0000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Text Box 9"/>
          <p:cNvSpPr/>
          <p:nvPr/>
        </p:nvSpPr>
        <p:spPr>
          <a:xfrm>
            <a:off x="5791320" y="29718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ol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hon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4800600" y="838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16" descr="vdos"/>
          <p:cNvPicPr/>
          <p:nvPr/>
        </p:nvPicPr>
        <p:blipFill>
          <a:blip r:embed="rId2"/>
          <a:srcRect l="5818" t="11294" r="8145" b="5647"/>
          <a:stretch/>
        </p:blipFill>
        <p:spPr>
          <a:xfrm>
            <a:off x="5943600" y="4191120"/>
            <a:ext cx="2789280" cy="20779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6934320" y="4338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DOS  </a:t>
            </a:r>
            <a:r>
              <a:rPr b="1" i="1" lang="el-GR" sz="2400" spc="-1" strike="noStrike">
                <a:solidFill>
                  <a:srgbClr val="ff66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380880" y="571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 ynamical matrix </a:t>
            </a:r>
            <a:r>
              <a:rPr b="0" i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from AB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Ge"/>
          <p:cNvPicPr/>
          <p:nvPr/>
        </p:nvPicPr>
        <p:blipFill>
          <a:blip r:embed="rId1"/>
          <a:srcRect l="1455" t="5647" r="4364" b="3765"/>
          <a:stretch/>
        </p:blipFill>
        <p:spPr>
          <a:xfrm>
            <a:off x="1025640" y="793800"/>
            <a:ext cx="7092720" cy="52722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09480" y="228600"/>
            <a:ext cx="7848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999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XAFS Debye-Waller Factor of 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44520" y="6210360"/>
            <a:ext cx="38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Expt: Dalba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et al.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(199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2209680" y="4724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F. Vila et al. Phys. Rev.  B</a:t>
            </a:r>
            <a:r>
              <a:rPr b="1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76, </a:t>
            </a:r>
            <a:r>
              <a:rPr b="0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014301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nclus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&amp; Valence BSE+GW packag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CEAN &amp; AI2NBS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RIXS, EELS, XAS,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cludes GW self-energy, multiplets, .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uture: RIXS, XPS, DW factors, 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Acknowledgment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Palatino"/>
              </a:rPr>
              <a:t>J. Vinson (UW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latino"/>
              </a:rPr>
              <a:t>J. Kas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F. Vila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K. Jorissen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. Lawler (Vanderbilt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latino"/>
              </a:rPr>
              <a:t>E. Shirley (NIST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562720" y="609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86e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nks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04920" y="6095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ed by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OE BES Grant DEFG03-97ER456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&amp; DOE Computational Materials Scienc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886200" y="4191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4648320" y="1295280"/>
            <a:ext cx="4114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X. Gonze, UC de Louv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. Soininen (U. Helsink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. Reining (E. Polytechniq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. Ambrosch-Draxl  (U. Leob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. Ahmed (U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Picture 7" descr="Feffteam.jpg"/>
          <p:cNvPicPr/>
          <p:nvPr/>
        </p:nvPicPr>
        <p:blipFill>
          <a:blip r:embed="rId1"/>
          <a:stretch/>
        </p:blipFill>
        <p:spPr>
          <a:xfrm>
            <a:off x="533520" y="3276720"/>
            <a:ext cx="7543800" cy="26589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609480" y="61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86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hr Group  &amp; collaborato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685800" y="1143000"/>
          <a:ext cx="47433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47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1026"/>
          <p:cNvSpPr/>
          <p:nvPr/>
        </p:nvSpPr>
        <p:spPr>
          <a:xfrm>
            <a:off x="4876920" y="76212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latino"/>
              </a:rPr>
              <a:t> 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533520" y="39625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ybrid approach to core spectro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W/BSE  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AS, NRIXS, EEL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W Pseudo-potential / planewave DF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cludes self energy damping, multiplets …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715000" y="99072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tai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ore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xc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spectra 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A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INI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N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53352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OCEAN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838080" y="6324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Phys. Rev.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115106 (20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762120" y="896760"/>
          <a:ext cx="59436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96760"/>
                    <a:ext cx="59436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343400" y="3529080"/>
            <a:ext cx="4191120" cy="2795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6858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</a:rPr>
              <a:t>2.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t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c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a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l-</a:t>
            </a:r>
            <a:r>
              <a:rPr b="0" lang="en-US" sz="3600" spc="-1" strike="noStrike">
                <a:solidFill>
                  <a:srgbClr val="cc3399"/>
                </a:solidFill>
                <a:latin typeface="Arial"/>
                <a:ea typeface="Arial"/>
              </a:rPr>
              <a:t>UV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ectra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I2NBSE*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562720" y="914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BINIT 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ST B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28600" y="6396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Phys. Rev.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5108 (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ethe-Salpeter Equ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article-Hole Hamiltonia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 = E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+ V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c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+ 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ubble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is unscreen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dder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is screen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1523880" y="1600200"/>
            <a:ext cx="1447560" cy="609480"/>
            <a:chOff x="1523880" y="1600200"/>
            <a:chExt cx="1447560" cy="609480"/>
          </a:xfrm>
        </p:grpSpPr>
        <p:sp>
          <p:nvSpPr>
            <p:cNvPr id="129" name="Line 4"/>
            <p:cNvSpPr/>
            <p:nvPr/>
          </p:nvSpPr>
          <p:spPr>
            <a:xfrm>
              <a:off x="1523880" y="16002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1752480" y="1600200"/>
              <a:ext cx="1218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 flipH="1">
              <a:off x="1676160" y="22096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2285640" y="16002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1523880" y="220968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 flipH="1">
              <a:off x="2590560" y="2209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1981080" y="1600200"/>
              <a:ext cx="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2514240" y="1600200"/>
              <a:ext cx="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51"/>
          <p:cNvGrpSpPr/>
          <p:nvPr/>
        </p:nvGrpSpPr>
        <p:grpSpPr>
          <a:xfrm>
            <a:off x="3885840" y="1600200"/>
            <a:ext cx="1524240" cy="609480"/>
            <a:chOff x="3885840" y="1600200"/>
            <a:chExt cx="1524240" cy="609480"/>
          </a:xfrm>
        </p:grpSpPr>
        <p:sp>
          <p:nvSpPr>
            <p:cNvPr id="138" name="Arc 25"/>
            <p:cNvSpPr/>
            <p:nvPr/>
          </p:nvSpPr>
          <p:spPr>
            <a:xfrm>
              <a:off x="4114800" y="160020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rc 27"/>
            <p:cNvSpPr/>
            <p:nvPr/>
          </p:nvSpPr>
          <p:spPr>
            <a:xfrm flipV="1">
              <a:off x="4114800" y="1905120"/>
              <a:ext cx="304920" cy="304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Arc 29"/>
            <p:cNvSpPr/>
            <p:nvPr/>
          </p:nvSpPr>
          <p:spPr>
            <a:xfrm flipH="1">
              <a:off x="4799880" y="1600200"/>
              <a:ext cx="304920" cy="30492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Arc 30"/>
            <p:cNvSpPr/>
            <p:nvPr/>
          </p:nvSpPr>
          <p:spPr>
            <a:xfrm flipH="1" flipV="1">
              <a:off x="4799880" y="1905120"/>
              <a:ext cx="304920" cy="30456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3886200" y="16002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3885840" y="22096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5105520" y="16002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H="1">
              <a:off x="5105520" y="22096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>
              <a:off x="4419720" y="1905120"/>
              <a:ext cx="3808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37"/>
          <p:cNvSpPr/>
          <p:nvPr/>
        </p:nvSpPr>
        <p:spPr>
          <a:xfrm>
            <a:off x="32767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3276720" y="1981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5791320" y="19051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5943600" y="1752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6324480" y="1600200"/>
            <a:ext cx="1447920" cy="609480"/>
            <a:chOff x="6324480" y="1600200"/>
            <a:chExt cx="1447920" cy="609480"/>
          </a:xfrm>
        </p:grpSpPr>
        <p:sp>
          <p:nvSpPr>
            <p:cNvPr id="152" name="Line 42"/>
            <p:cNvSpPr/>
            <p:nvPr/>
          </p:nvSpPr>
          <p:spPr>
            <a:xfrm>
              <a:off x="6324480" y="16002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6553080" y="160020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 flipH="1">
              <a:off x="6477120" y="22096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086600" y="16002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>
              <a:off x="6324480" y="2209680"/>
              <a:ext cx="129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 flipH="1">
              <a:off x="7391520" y="2209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7010280" y="1600200"/>
              <a:ext cx="0" cy="6094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086600" y="1600200"/>
              <a:ext cx="0" cy="6094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Rectangle 52"/>
          <p:cNvSpPr/>
          <p:nvPr/>
        </p:nvSpPr>
        <p:spPr>
          <a:xfrm>
            <a:off x="1981080" y="1600200"/>
            <a:ext cx="5335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41148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b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64008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d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ethe-Salpeter Equ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081080" y="2135160"/>
            <a:ext cx="4863960" cy="39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805120" y="2874960"/>
            <a:ext cx="3479760" cy="406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3"/>
          <a:stretch/>
        </p:blipFill>
        <p:spPr>
          <a:xfrm>
            <a:off x="2631960" y="4286160"/>
            <a:ext cx="4000680" cy="47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4"/>
          <a:stretch/>
        </p:blipFill>
        <p:spPr>
          <a:xfrm>
            <a:off x="2832120" y="3619440"/>
            <a:ext cx="2108160" cy="393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5630760" y="53308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" name="Straight Arrow Connector 8"/>
          <p:cNvCxnSpPr/>
          <p:nvPr/>
        </p:nvCxnSpPr>
        <p:spPr>
          <a:xfrm flipH="1" flipV="1">
            <a:off x="5945040" y="4861800"/>
            <a:ext cx="340200" cy="469080"/>
          </a:xfrm>
          <a:prstGeom prst="straightConnector1">
            <a:avLst/>
          </a:prstGeom>
          <a:ln w="57240">
            <a:solidFill>
              <a:srgbClr val="007399"/>
            </a:solidFill>
            <a:miter/>
            <a:tailEnd len="med" type="triangle" w="med"/>
          </a:ln>
        </p:spPr>
      </p:cxnSp>
      <p:sp>
        <p:nvSpPr>
          <p:cNvPr id="170" name="TextBox 9"/>
          <p:cNvSpPr/>
          <p:nvPr/>
        </p:nvSpPr>
        <p:spPr>
          <a:xfrm>
            <a:off x="2468520" y="5330880"/>
            <a:ext cx="21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" name="Straight Arrow Connector 10"/>
          <p:cNvCxnSpPr/>
          <p:nvPr/>
        </p:nvCxnSpPr>
        <p:spPr>
          <a:xfrm flipV="1">
            <a:off x="3740040" y="4755960"/>
            <a:ext cx="394560" cy="575280"/>
          </a:xfrm>
          <a:prstGeom prst="straightConnector1">
            <a:avLst/>
          </a:prstGeom>
          <a:ln w="57240">
            <a:solidFill>
              <a:srgbClr val="007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ielectric Response &lt; BS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particle-hole Hamiltonian including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any-pole GW self-energy  </a:t>
            </a:r>
            <a:r>
              <a:rPr b="0" lang="el-GR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Σ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gorithm: Haydock recursion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174" name="Group 1030"/>
          <p:cNvGrpSpPr/>
          <p:nvPr/>
        </p:nvGrpSpPr>
        <p:grpSpPr>
          <a:xfrm>
            <a:off x="1143000" y="1447920"/>
            <a:ext cx="6858000" cy="838080"/>
            <a:chOff x="1143000" y="1447920"/>
            <a:chExt cx="6858000" cy="838080"/>
          </a:xfrm>
        </p:grpSpPr>
        <p:sp>
          <p:nvSpPr>
            <p:cNvPr id="175" name="Rectangle 1029"/>
            <p:cNvSpPr/>
            <p:nvPr/>
          </p:nvSpPr>
          <p:spPr>
            <a:xfrm>
              <a:off x="1143000" y="1447920"/>
              <a:ext cx="6858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Picture 1028" descr="_x0005_5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218960" y="1523880"/>
              <a:ext cx="6731280" cy="69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0880" y="1723680"/>
            <a:ext cx="840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tandard Density-Functional Theor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seudopotential, Plane-wave, LD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"/>
              </a:rPr>
              <a:t>ABINIT</a:t>
            </a:r>
            <a:r>
              <a:rPr b="0" lang="en-US" sz="2800" spc="-1" strike="noStrike">
                <a:solidFill>
                  <a:srgbClr val="ff0000"/>
                </a:solidFill>
                <a:latin typeface="Palatino"/>
              </a:rPr>
              <a:t> (www.abinit.org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Well-documented shortcomings; improvement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W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XC + 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to pseudo transitions with PA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ollowing Blöchl, PRB 50, 17953 (1994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round-stat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Palatino"/>
              </a:rPr>
              <a:t>ABINIT</a:t>
            </a:r>
            <a:r>
              <a:rPr b="0" lang="en-US" sz="2800" spc="-1" strike="noStrike">
                <a:solidFill>
                  <a:srgbClr val="ffc000"/>
                </a:solidFill>
                <a:latin typeface="Palatino"/>
              </a:rPr>
              <a:t>  (Plane-wave, pseudo-potential)*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DA (Ceperley-Alder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c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Zero Temp / Frozen latti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egular grid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spa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ze required varies with BZ volum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states from NIST HF atomic cod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*Other PW/PP  DFT codes may also work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Kohn-Sham Wave-Func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25:23Z</dcterms:created>
  <dc:creator>John Vinson</dc:creator>
  <dc:description/>
  <dc:language>en-US</dc:language>
  <cp:lastModifiedBy>John Rehr</cp:lastModifiedBy>
  <dcterms:modified xsi:type="dcterms:W3CDTF">2011-04-14T08:58:52Z</dcterms:modified>
  <cp:revision>166</cp:revision>
  <dc:subject/>
  <dc:title>Obtaining Core Excitation spectra using ABINIT and NBSE</dc:title>
</cp:coreProperties>
</file>